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7259-0349-4B7C-A76C-B07DBC8ED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gry, starving, t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3514-2F3D-4F48-8178-7A2179B26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s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FB3F-F270-4816-BBA7-C36C29521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39A-F716-4DEA-A3E6-FF748D65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214B-BC63-47DA-8679-96189BFE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8D3C-5AD7-4836-B5F7-16408BB1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EA54-7275-4F07-B083-C8AC862F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71A5-BC77-421A-871D-30FAF524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BBF-EA0D-4638-A957-0BDD65C5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47F-90F9-47F6-B9AF-89C4FA43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BB0-C1CA-4C7D-A9FC-5EF78D4D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C4B-9925-4E52-8682-21360276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18E-1E0D-4614-B507-A66DBD18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3939-2E06-43FC-BDA2-FD1B0446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5EB-DDEC-4F03-A302-A54DCE80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AA7A-D929-419C-8EFB-B7BBDDAF0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"/>
          <p:cNvPicPr/>
          <p:nvPr/>
        </p:nvPicPr>
        <p:blipFill>
          <a:blip r:embed="rId1"/>
          <a:stretch/>
        </p:blipFill>
        <p:spPr>
          <a:xfrm>
            <a:off x="262080" y="554040"/>
            <a:ext cx="2938320" cy="32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2"/>
          <a:stretch/>
        </p:blipFill>
        <p:spPr>
          <a:xfrm>
            <a:off x="3657600" y="76320"/>
            <a:ext cx="3048120" cy="4305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"/>
          <p:cNvPicPr/>
          <p:nvPr/>
        </p:nvPicPr>
        <p:blipFill>
          <a:blip r:embed="rId3"/>
          <a:stretch/>
        </p:blipFill>
        <p:spPr>
          <a:xfrm>
            <a:off x="228600" y="4730760"/>
            <a:ext cx="3052800" cy="403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"/>
          <p:cNvPicPr/>
          <p:nvPr/>
        </p:nvPicPr>
        <p:blipFill>
          <a:blip r:embed="rId4"/>
          <a:stretch/>
        </p:blipFill>
        <p:spPr>
          <a:xfrm>
            <a:off x="4089240" y="4876920"/>
            <a:ext cx="21592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857680" cy="3543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2"/>
          <a:stretch/>
        </p:blipFill>
        <p:spPr>
          <a:xfrm>
            <a:off x="3581280" y="181080"/>
            <a:ext cx="3095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9T19:40:38Z</dcterms:modified>
  <cp:revision>8</cp:revision>
  <dc:subject/>
  <dc:title>Slide 1</dc:title>
</cp:coreProperties>
</file>