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E8C0-2207-4F45-9C5A-CB4A9D4D7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ngry, starving, t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3F76-453E-4467-8C64-9780F3301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rs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DC40-A886-4914-8ADB-DD00AA212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5195-68E6-42D0-A218-9F825CAF2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98CF-BFE8-487C-BBEB-E6F85F4D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626F-EB88-4A86-BCA5-D896BA052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F7B5-98CF-450B-BFE7-67EC886B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1041-933A-4687-91C2-036D8A0E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F2D1-3F6D-42E3-B488-E6712346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B3CE-9AD1-4C12-A6CF-0ADCB60A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5C82-7B01-4D11-A551-0DC1B7D5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8F1A-7695-4EA5-BFED-244EF2E3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A9C2-B813-450F-ABE2-C843A1B3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BE6C-1728-4733-9A8D-53B10634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C6A6-C017-47CD-8C3C-267225CC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E685-F2ED-45DD-B758-879CE6241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5" descr=""/>
          <p:cNvPicPr/>
          <p:nvPr/>
        </p:nvPicPr>
        <p:blipFill>
          <a:blip r:embed="rId1"/>
          <a:stretch/>
        </p:blipFill>
        <p:spPr>
          <a:xfrm>
            <a:off x="262080" y="554040"/>
            <a:ext cx="2938320" cy="3255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"/>
          <p:cNvPicPr/>
          <p:nvPr/>
        </p:nvPicPr>
        <p:blipFill>
          <a:blip r:embed="rId2"/>
          <a:stretch/>
        </p:blipFill>
        <p:spPr>
          <a:xfrm>
            <a:off x="3657600" y="76320"/>
            <a:ext cx="3048120" cy="4305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"/>
          <p:cNvPicPr/>
          <p:nvPr/>
        </p:nvPicPr>
        <p:blipFill>
          <a:blip r:embed="rId3"/>
          <a:stretch/>
        </p:blipFill>
        <p:spPr>
          <a:xfrm>
            <a:off x="228600" y="4730760"/>
            <a:ext cx="3052800" cy="403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"/>
          <p:cNvPicPr/>
          <p:nvPr/>
        </p:nvPicPr>
        <p:blipFill>
          <a:blip r:embed="rId4"/>
          <a:stretch/>
        </p:blipFill>
        <p:spPr>
          <a:xfrm>
            <a:off x="4089240" y="4876920"/>
            <a:ext cx="215928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2857680" cy="3543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"/>
          <p:cNvPicPr/>
          <p:nvPr/>
        </p:nvPicPr>
        <p:blipFill>
          <a:blip r:embed="rId2"/>
          <a:stretch/>
        </p:blipFill>
        <p:spPr>
          <a:xfrm>
            <a:off x="3581280" y="181080"/>
            <a:ext cx="30956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16706</cp:lastModifiedBy>
  <dcterms:modified xsi:type="dcterms:W3CDTF">2010-07-19T19:40:38Z</dcterms:modified>
  <cp:revision>8</cp:revision>
  <dc:subject/>
  <dc:title>Slide 1</dc:title>
</cp:coreProperties>
</file>