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0188-2A5A-4814-BBEA-A7ECD3DA4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gry, starving, t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3370-BB11-4258-BB7D-2F33C5F16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s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FA21-B5A1-462C-ACB0-55713381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349-4FB8-4CB0-B3F2-E89FAEF6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F50-59FE-49A6-B118-A02E076A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6F0-31FF-422D-938B-43D6F1F6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DAD-4754-4DD4-BDA1-F5FAF2DB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652-8D3E-4B58-B5F3-C9B1E64C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336-C4A1-48F9-8C14-3774317C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FCA-9769-4AE4-8766-C445DD28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D96-273C-44CE-A8DE-FD58345C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A80-586B-4FF3-ABC4-8B43E670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7D4-9F02-4262-8F13-2E2E8F35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D6E-0BA9-4CDF-AE26-134AA2D8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CC1-2C78-4DBE-85BB-E712A3C9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AA97-67C0-42CA-92A3-74E7293FF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1"/>
          <a:stretch/>
        </p:blipFill>
        <p:spPr>
          <a:xfrm>
            <a:off x="262080" y="554040"/>
            <a:ext cx="2938320" cy="32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304812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3"/>
          <a:stretch/>
        </p:blipFill>
        <p:spPr>
          <a:xfrm>
            <a:off x="228600" y="4730760"/>
            <a:ext cx="305280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4"/>
          <a:stretch/>
        </p:blipFill>
        <p:spPr>
          <a:xfrm>
            <a:off x="4089240" y="4876920"/>
            <a:ext cx="21592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857680" cy="354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3581280" y="18108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9:40:38Z</dcterms:modified>
  <cp:revision>8</cp:revision>
  <dc:subject/>
  <dc:title>Slide 1</dc:title>
</cp:coreProperties>
</file>