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5ED-6B2C-4128-A365-3D0CC7C6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1C6-B7EE-40FC-9C45-B1C7E3E8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288-3B1B-47AE-BE96-A95E092A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790-7CD6-4549-B9F8-DFB88BB1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923-397B-427F-86EC-B1687E20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4CA-4034-4A29-9E47-C0E52485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D4C-576D-4CD6-985F-8A237DBA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9E2-0AF4-4E27-8487-97168FC5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371-6389-4E2D-92F6-6E036DB0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BC9-A4B6-4429-A8CE-FC4271E0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DC1-820B-4032-A06D-F67650D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712-FFB9-4F3D-91CA-3F6CF459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1BCE-6660-4920-A77B-6005DB55D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Unit 6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4/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Weather/Sea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303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5562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sun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weather is snow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0388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55623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win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6744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2640" y="5562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rai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9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The weather is co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56386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03884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How is the weather?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57913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eather is clou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5:50:08Z</dcterms:created>
  <dc:creator>118691</dc:creator>
  <dc:description/>
  <dc:language>en-US</dc:language>
  <cp:lastModifiedBy>Shelby Madden</cp:lastModifiedBy>
  <dcterms:modified xsi:type="dcterms:W3CDTF">2010-05-13T23:01:15Z</dcterms:modified>
  <cp:revision>6</cp:revision>
  <dc:subject/>
  <dc:title>Slide 1</dc:title>
</cp:coreProperties>
</file>