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F6F-C405-4B22-B7E1-2F197E8C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BD4-80D9-4B88-881C-3CC4452E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959-D2BB-454A-9FE5-0213A929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1A1-5692-46E8-B3D9-6AE83FD4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E6DA-4F25-4800-AFD3-4D3694C0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314-2829-4D51-95DF-D4CF9ACF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3E8-3EFD-4C5C-8011-864D60ED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268-1511-40D0-A437-8FF8CEDA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8CB-CD31-4847-8CBE-17DBE72F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101-B672-44E3-B90D-E8343DFB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C3B-A7D0-43FB-8CF1-4212E050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AF55-A6FF-4D21-AD57-CA4C5B38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75BC-84CD-4D2B-8199-246109422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Unit 6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4/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Weather/Sea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2303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55623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weather is sunn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5409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weather is snow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0388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55623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weather is wind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26744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42640" y="55623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ather is rain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497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67652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weather is col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1055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90720" y="56386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ather is h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03884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62120" y="579132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ather is clou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5:50:08Z</dcterms:created>
  <dc:creator>118691</dc:creator>
  <dc:description/>
  <dc:language>en-US</dc:language>
  <cp:lastModifiedBy>Shelby Madden</cp:lastModifiedBy>
  <dcterms:modified xsi:type="dcterms:W3CDTF">2010-05-13T23:01:15Z</dcterms:modified>
  <cp:revision>6</cp:revision>
  <dc:subject/>
  <dc:title>Slide 1</dc:title>
</cp:coreProperties>
</file>