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6B9-62DF-49FF-9887-79A0E89F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DEC5-32BC-4C40-83D7-5C12E885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6A5B-F874-486C-9C3F-DD87C00D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3F9-A768-42A0-9839-B01DA5DF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C4E7-2EEA-4299-8FB8-F3514190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11D-2DC3-4E93-B495-43135683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4AF0-92EF-4B8E-BE69-BD4E2644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8F62-423B-484C-B9F0-45D369A4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318-BA2B-4795-BB05-7BFF6EDD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B1D-DAC5-4665-A174-EFF80535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DA3-1441-45A8-A097-83AA1673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F3C-BB67-45E5-8732-A777C34D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9286-E8F1-4657-9F85-C3DC497E9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4/5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Unit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Emo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1366920" cy="1752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10280" y="2819520"/>
            <a:ext cx="1449360" cy="1676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14400" y="2819520"/>
            <a:ext cx="15526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Frighten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Surpris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506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Ang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7242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Nervou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948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Bor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019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Embarrass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6479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Frighten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41972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Happ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767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Miser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72428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Sh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572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Irritat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825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1:59:15Z</dcterms:created>
  <dc:creator>118691</dc:creator>
  <dc:description/>
  <dc:language>en-US</dc:language>
  <cp:lastModifiedBy>Shelby Madden</cp:lastModifiedBy>
  <dcterms:modified xsi:type="dcterms:W3CDTF">2010-05-13T22:58:11Z</dcterms:modified>
  <cp:revision>3</cp:revision>
  <dc:subject/>
  <dc:title>4/5 Unit 6</dc:title>
</cp:coreProperties>
</file>