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5ACF-0EDF-445A-96F4-732AE520D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8686-4495-46CA-BDDB-33D2C631E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03FC-02EC-46A3-B281-363A8E621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DF3A-8FA2-4951-80EA-7FFB86099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573B-1097-4B0D-98E1-B83D08F6F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7F0B-3BCB-445F-8B24-F7765A0ED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01DE-3C9E-4CDB-800C-AEF2CA2D0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BD72-25AB-4097-A36D-3EE923C48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633E-1CC7-4DAE-BEA8-9699E2811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3DE0-E26A-41CA-9468-7C977A83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0000-8F17-4BA9-8669-C444DA269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4020-9CA5-4658-A420-29DE92B4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FF901-10C9-4293-A927-C61802049C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entury Gothic"/>
              </a:rPr>
              <a:t>4/5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entury Gothic"/>
              </a:rPr>
              <a:t>Unit 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entury Gothic"/>
              </a:rPr>
              <a:t>Emotion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114800" y="2743200"/>
            <a:ext cx="1366920" cy="17524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010280" y="2819520"/>
            <a:ext cx="1449360" cy="16761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914400" y="2819520"/>
            <a:ext cx="155268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entury Gothic"/>
              </a:rPr>
              <a:t>Frightene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514600" y="1981080"/>
            <a:ext cx="4114800" cy="38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entury Gothic"/>
              </a:rPr>
              <a:t>Surprise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743200" y="1828800"/>
            <a:ext cx="35067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entury Gothic"/>
              </a:rPr>
              <a:t>Angr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286000" y="2209680"/>
            <a:ext cx="472428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entury Gothic"/>
              </a:rPr>
              <a:t>Nervou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590920" y="1828800"/>
            <a:ext cx="39481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entury Gothic"/>
              </a:rPr>
              <a:t>Bore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438280" y="1676520"/>
            <a:ext cx="4019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entury Gothic"/>
              </a:rPr>
              <a:t>Embarrasse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133720" y="1752480"/>
            <a:ext cx="4647960" cy="43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entury Gothic"/>
              </a:rPr>
              <a:t>Frightene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14600" y="1752480"/>
            <a:ext cx="4419720" cy="41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entury Gothic"/>
              </a:rPr>
              <a:t>Happ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666880" y="1752480"/>
            <a:ext cx="3767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entury Gothic"/>
              </a:rPr>
              <a:t>Miserab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86000" y="1600200"/>
            <a:ext cx="4724280" cy="44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entury Gothic"/>
              </a:rPr>
              <a:t>Sh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438280" y="1600200"/>
            <a:ext cx="4572000" cy="41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entury Gothic"/>
              </a:rPr>
              <a:t>Irritate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590920" y="1752480"/>
            <a:ext cx="38257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21:59:15Z</dcterms:created>
  <dc:creator>118691</dc:creator>
  <dc:description/>
  <dc:language>en-US</dc:language>
  <cp:lastModifiedBy>Shelby Madden</cp:lastModifiedBy>
  <dcterms:modified xsi:type="dcterms:W3CDTF">2010-05-13T22:58:11Z</dcterms:modified>
  <cp:revision>3</cp:revision>
  <dc:subject/>
  <dc:title>4/5 Unit 6</dc:title>
</cp:coreProperties>
</file>