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D62-69B5-45A9-8F47-7F1A6F99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920-1A54-4133-BE6C-145DF335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02E-EDA1-4F6E-B5C8-AF823734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6BE-19B9-43DB-996B-4E2326AD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DFD-A16F-4689-B1C0-81C20BC2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C55-411B-4C32-857C-C267FA36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232-410C-441B-B1C1-84089828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DEE-9B00-4BDA-B1FE-6FDDCB31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3AD-DA8B-492B-A578-6413A3FD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757-A8F2-4F8B-B6FB-31A1BC6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A57-F529-4780-8435-D28EA128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AB9-30FD-4D2A-8A3B-EF907641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C8DE-0E6A-4F61-B201-489734DDC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4/5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Unit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o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136692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10280" y="2819520"/>
            <a:ext cx="144936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14400" y="2819520"/>
            <a:ext cx="15526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urpri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06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Ang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7242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ervo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8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Bo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0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barras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6479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419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Happ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67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Miser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242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h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Irrita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2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59:15Z</dcterms:created>
  <dc:creator>118691</dc:creator>
  <dc:description/>
  <dc:language>en-US</dc:language>
  <cp:lastModifiedBy>Shelby Madden</cp:lastModifiedBy>
  <dcterms:modified xsi:type="dcterms:W3CDTF">2010-05-13T22:58:11Z</dcterms:modified>
  <cp:revision>3</cp:revision>
  <dc:subject/>
  <dc:title>4/5 Unit 6</dc:title>
</cp:coreProperties>
</file>