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CF7F-CD77-4077-827D-AE71EB788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DA80-9E81-4E58-9866-B849CFC6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DAC0-FD51-4C4D-9471-972461F06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C682-BFF1-479D-B9BE-8103C1C1E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FD91-E42D-4B0D-A14D-70826337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27CE-035D-4277-9D0E-BDC0B57F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0691-E352-4916-A84D-1B636C48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6C6D-DC46-4E3B-9AEB-0C19EAE6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08AE-5554-4A21-AF99-FF62F60F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035C-B34D-490A-8C6E-09C4E5BF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5290-3976-4593-B47D-2C3DBDF9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19DB-50AA-46D0-B84D-8553FACF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5CA3-5D7A-4BCB-B898-E38A5625E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it 6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/5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52480" y="525780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lict Between Pe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2712960" cy="2971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029200" y="1676520"/>
            <a:ext cx="297180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are yo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600" y="53337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am cheerful!  They played with m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472428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556272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am angry!  She pushed 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403884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5333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am sad.  He ignored m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54864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am surprised!  He hit me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352680" y="1600200"/>
            <a:ext cx="2735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5333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am frustrated!  She won’t talk to m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90920" y="1447920"/>
            <a:ext cx="3627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80880" y="571500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am disappointed.  He pushed 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35258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wr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5638680"/>
            <a:ext cx="7696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am embarrassed. He tripped m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411480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are yo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37720" y="548640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am happy!  He shared with 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895480" y="1295280"/>
            <a:ext cx="34243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are yo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80520" y="55627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am overjoyed! She took turns with m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971800" y="1447920"/>
            <a:ext cx="35593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21:20:36Z</dcterms:created>
  <dc:creator>118691</dc:creator>
  <dc:description/>
  <dc:language>en-US</dc:language>
  <cp:lastModifiedBy>Shelby Madden</cp:lastModifiedBy>
  <dcterms:modified xsi:type="dcterms:W3CDTF">2010-05-13T22:56:42Z</dcterms:modified>
  <cp:revision>7</cp:revision>
  <dc:subject/>
  <dc:title>Slide 1</dc:title>
</cp:coreProperties>
</file>