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655-50D2-487C-A373-E52CAD1F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165-6B9A-46F5-A1BD-6850C55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508-1EB1-423E-BDE7-A8E848AE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BE5-45EE-4D79-B1E8-6A6E873B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6C-0B7C-4D51-A3C4-1231364D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D4A-C17A-4822-A2FA-1D142050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8EB-5EA5-4C48-913F-4E4BBF8C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ABA-1CD3-49C0-AB59-610C752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952-C252-4A70-B9E1-CB078AB6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AB1-3689-4709-A9B5-2532E50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3F1-0EAA-4CF4-B195-9C64BA3D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5C4-B4F8-4B24-B74F-CB9F35B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E44-8021-4931-AEE5-7AC538D7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/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257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Between P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712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cheerful!  They played with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724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55627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ngry!  S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ad.  He ignored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urprised!  He hit m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frustrated!  She won’t talk to 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27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disappointed.  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2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embarrassed. He trippe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1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happy!  He shared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overjoyed! She took turns wi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59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20:36Z</dcterms:created>
  <dc:creator>118691</dc:creator>
  <dc:description/>
  <dc:language>en-US</dc:language>
  <cp:lastModifiedBy>Shelby Madden</cp:lastModifiedBy>
  <dcterms:modified xsi:type="dcterms:W3CDTF">2010-05-13T22:56:42Z</dcterms:modified>
  <cp:revision>7</cp:revision>
  <dc:subject/>
  <dc:title>Slide 1</dc:title>
</cp:coreProperties>
</file>