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14F-B0F5-4009-87E4-ED194EB1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6B1-D01D-4933-BE3C-6E0F0961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99A-CDB9-4C29-B934-C8D769B4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EA6-D4AA-4A5D-B450-5930CB94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D4E-265C-4393-A8EB-7B94110A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F71-A033-49D3-B2E9-2E398E0C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928-E360-418E-8B6B-0790A85B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E21-3F36-4827-82F2-97B4C996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D24-28E0-470C-A9F3-831CC170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A0C-009E-4941-A100-BFE7A0CF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12A-32C9-4C96-B542-783A9B75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843-53C1-42E4-807D-2E6AA94C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EE0C-D90C-4D10-A8C8-5F3018255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:  </a:t>
            </a:r>
            <a:r>
              <a:rPr b="0" lang="en-US" sz="3200" spc="-1" strike="noStrike">
                <a:solidFill>
                  <a:srgbClr val="33cc33"/>
                </a:solidFill>
                <a:latin typeface="Kristen ITC"/>
              </a:rPr>
              <a:t>Social Courte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1559725.thb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29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eat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2946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I slide with you?     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OK!    Thank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want to slide?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593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play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 to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657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walk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w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813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hopscotch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hopscot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1559508.thb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869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talk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t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1907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read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089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jump rope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jump 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21559725.thb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724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play tag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play t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42900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09T17:30:08Z</dcterms:modified>
  <cp:revision>10</cp:revision>
  <dc:subject/>
  <dc:title>Slide 1</dc:title>
</cp:coreProperties>
</file>