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681-A484-491E-B35B-FA221DB0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4D5-3658-4DE6-BDD5-310750C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773-59E0-40FB-A179-EE77E2CD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A62-11AD-4A9F-8CFE-6E27CA8C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E98-595E-4B49-A4E7-86178E1B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42A-6291-4A6A-A20A-8B9B9966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4EC-21B0-4BF9-B401-E34BA6E6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E40-B5E4-4416-8ECB-E0BC963D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F00-38BB-4AD5-858C-DF5E446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8E5-150F-422C-9367-E34E614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26B-875C-4B97-A7AE-79F23D1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823-0E33-4A77-9C37-BB18C85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2186-313C-41A9-ACD6-BEBD6AB09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33cc33"/>
                </a:solidFill>
                <a:latin typeface="Kristen ITC"/>
              </a:rPr>
              <a:t>Social Courte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725.thb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eat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46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 slide with you?    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OK!    Thank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slide?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9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w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1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hopscotch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hopsco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1559508.thb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6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t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19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read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08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jump rope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jump 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1559725.thb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724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tag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play t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08Z</dcterms:modified>
  <cp:revision>10</cp:revision>
  <dc:subject/>
  <dc:title>Slide 1</dc:title>
</cp:coreProperties>
</file>