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6D5-02A2-426D-813B-E3109C82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2FB-1751-4E9C-8E45-5F8E631F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E9D-E07F-4FA9-9449-E2F6D162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2E7-2FFE-42DE-9561-C21C149A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E6A-59E8-489F-9F14-D25CF3A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74A-4CD6-49CA-87F2-8212A548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04D-1F00-4AD8-9E34-8BD725F7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F85-952F-4525-80CD-624B67A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FB4-5A5F-4AA9-86C2-3C416431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99F-CB9C-4523-9162-49D2D9E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90B-CC0B-426B-833D-C652E1F2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198-63EE-48A7-8994-C64D6EC8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844D-3251-4941-81F7-1CA7F67C5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33cc33"/>
                </a:solidFill>
                <a:latin typeface="Kristen ITC"/>
              </a:rPr>
              <a:t>Social Courte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725.thb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eat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2946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I slide with you?     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OK!    Thank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want to slide?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59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 to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w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81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hopscotch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hopsco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1559508.thb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86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t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1907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read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089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jump rope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jump 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1559725.thb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724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tag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play t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42900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08Z</dcterms:modified>
  <cp:revision>10</cp:revision>
  <dc:subject/>
  <dc:title>Slide 1</dc:title>
</cp:coreProperties>
</file>