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760F-1E31-4AEE-AC1B-3D7120AB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FFF-B08C-42A6-AE86-5BAC0FDC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8FF-CA84-4626-B632-C9233DE3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16E4-F92E-4F85-9C61-5F83D76F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6717-9EEC-4BCD-AC72-91BDE57B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2A80-1984-48D0-84A9-9DDF042D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3F4C-618E-451C-B3C0-150D6896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FB2-F6D1-47C8-B286-A5404871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1E01-1CEB-4425-9868-8ACE6767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5B3E-7F76-4626-A72C-723C5288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5823-2E04-4BE5-8FE7-E0600F8E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B1F7-9C29-4595-8526-00DAEEC0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0E28-FA6D-46A3-A931-6804CEE19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4/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Unit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eginning and Early Inter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opic:  </a:t>
            </a:r>
            <a:r>
              <a:rPr b="0" lang="en-US" sz="3200" spc="-1" strike="noStrike">
                <a:solidFill>
                  <a:srgbClr val="00ccff"/>
                </a:solidFill>
                <a:latin typeface="Kristen ITC"/>
              </a:rPr>
              <a:t>Re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04812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e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e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wh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30481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enn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enn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yello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293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cc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cc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black and wh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e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it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e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it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4000" spc="-1" strike="noStrike">
                <a:solidFill>
                  <a:srgbClr val="996633"/>
                </a:solidFill>
                <a:latin typeface="Arial"/>
              </a:rPr>
              <a:t>brow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2849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ke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asketbal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dark orang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3526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4572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4000" spc="-1" strike="noStrike">
                <a:solidFill>
                  <a:srgbClr val="996633"/>
                </a:solidFill>
                <a:latin typeface="Arial"/>
              </a:rPr>
              <a:t>brow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673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i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t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elme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lor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t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elme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blu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5049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6:36:47Z</dcterms:created>
  <dc:creator>118691</dc:creator>
  <dc:description/>
  <dc:language>en-US</dc:language>
  <cp:lastModifiedBy>118691</cp:lastModifiedBy>
  <dcterms:modified xsi:type="dcterms:W3CDTF">2010-03-09T17:30:36Z</dcterms:modified>
  <cp:revision>10</cp:revision>
  <dc:subject/>
  <dc:title>Slide 1</dc:title>
</cp:coreProperties>
</file>