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8D1-892B-457B-9FCA-952EFD97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46B-34C4-46F6-97C1-38F77A56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0D7-CC9E-48A3-AF54-36908ECD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76D-CC40-4040-A62B-9F3CCC20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C91-FE37-4499-85D0-BF6FD29F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48D-5E08-4E4C-8F1A-90947240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C29-DCD5-41FE-96D2-FF6BAD85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FE4-1922-43DA-89AD-99891D88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3B4-5029-4276-8AAC-A9DD6422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A78-EA33-40B6-8391-AF5C1EAD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36E-59FE-400F-9911-F8928FBA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320-07F0-4D00-9D32-6A5C1A8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2265-1EF3-4435-9705-FA0944CFF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:  </a:t>
            </a:r>
            <a:r>
              <a:rPr b="0" lang="en-US" sz="3200" spc="-1" strike="noStrike">
                <a:solidFill>
                  <a:srgbClr val="00ccff"/>
                </a:solidFill>
                <a:latin typeface="Kristen ITC"/>
              </a:rPr>
              <a:t>Re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0481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3048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nn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nn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yell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93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c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c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black and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t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t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br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849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dark orang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52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br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3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lm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lm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blu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5049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09T17:30:36Z</dcterms:modified>
  <cp:revision>10</cp:revision>
  <dc:subject/>
  <dc:title>Slide 1</dc:title>
</cp:coreProperties>
</file>