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8F8-4013-4E16-AC08-E39C7F97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C9B-1682-4750-9F7D-3F7C263B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8DF-2799-40F2-AB17-C967C956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8CD-DF0F-48D4-BF97-1E2C7607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342-EB05-4D20-9ACF-A39EF65B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3AD-CEC1-4682-8A5E-658EC9F8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144-4DE0-4792-9066-C7E0E937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9AF-D73B-4443-A106-CFDF0DD9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65E-D3A7-4B96-998A-C3A5FAAB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3C8-68AA-4235-9309-506A3ED1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E8C-37D5-48AF-9205-0C1BB139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026-077E-4FD2-A2DB-516FB0BC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E6F1-D9EB-4437-8946-F3C2971AE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4/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Uni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ginning and Early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pic:  </a:t>
            </a:r>
            <a:r>
              <a:rPr b="0" lang="en-US" sz="3200" spc="-1" strike="noStrike">
                <a:solidFill>
                  <a:srgbClr val="00ccff"/>
                </a:solidFill>
                <a:latin typeface="Kristen ITC"/>
              </a:rPr>
              <a:t>Re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0481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wh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30481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enn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enn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yell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93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c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c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black and wh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it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it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996633"/>
                </a:solidFill>
                <a:latin typeface="Arial"/>
              </a:rPr>
              <a:t>brow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849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ke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asketbal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dark orang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3526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996633"/>
                </a:solidFill>
                <a:latin typeface="Arial"/>
              </a:rPr>
              <a:t>brow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673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elm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elm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blu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5049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6:36:47Z</dcterms:created>
  <dc:creator>118691</dc:creator>
  <dc:description/>
  <dc:language>en-US</dc:language>
  <cp:lastModifiedBy>118691</cp:lastModifiedBy>
  <dcterms:modified xsi:type="dcterms:W3CDTF">2010-03-09T17:30:36Z</dcterms:modified>
  <cp:revision>10</cp:revision>
  <dc:subject/>
  <dc:title>Slide 1</dc:title>
</cp:coreProperties>
</file>