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9BD3-1DD7-4CC5-9CD2-68479BC25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90A-AE1C-4E46-BC40-7691306C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2EA8-9514-4AB3-85DC-D902DEBC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BA32-1738-43E1-AF81-0E88BB43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234D-202E-4CC8-AF39-BFD8A5CA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A35E-84A7-404C-9734-D577952B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BA66-2B2B-457C-80EE-C98D56A7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CB14-1C9B-4498-ACC3-6D4D6043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E200-1FED-42E2-8462-AA8D4183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DBB2-608B-44F5-B5E3-9FA97D5B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4FB0-1BAA-4E0B-BFBE-1E78C922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8DBF-E1A0-453B-A928-8F9A9D8F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D9DC-8058-4DC5-A89B-9208C9CCD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4/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Unit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Beginning and Early Intermed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Topic:  </a:t>
            </a:r>
            <a:r>
              <a:rPr b="0" lang="en-US" sz="3200" spc="-1" strike="noStrike">
                <a:solidFill>
                  <a:srgbClr val="00ccff"/>
                </a:solidFill>
                <a:latin typeface="Kristen ITC"/>
              </a:rPr>
              <a:t>Re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04812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e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e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whi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30481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enn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8095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enn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yello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293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cc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cc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black and whi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e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it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e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it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4000" spc="-1" strike="noStrike">
                <a:solidFill>
                  <a:srgbClr val="996633"/>
                </a:solidFill>
                <a:latin typeface="Arial"/>
              </a:rPr>
              <a:t>brow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2849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ket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basketbal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dark orang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3526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ot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4572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ot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4000" spc="-1" strike="noStrike">
                <a:solidFill>
                  <a:srgbClr val="996633"/>
                </a:solidFill>
                <a:latin typeface="Arial"/>
              </a:rPr>
              <a:t>brow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26733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ot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elme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ot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elme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4000" spc="-1" strike="noStrike">
                <a:solidFill>
                  <a:srgbClr val="00ccff"/>
                </a:solidFill>
                <a:latin typeface="Arial"/>
              </a:rPr>
              <a:t>blu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50496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6:36:47Z</dcterms:created>
  <dc:creator>118691</dc:creator>
  <dc:description/>
  <dc:language>en-US</dc:language>
  <cp:lastModifiedBy>118691</cp:lastModifiedBy>
  <dcterms:modified xsi:type="dcterms:W3CDTF">2010-03-09T17:30:36Z</dcterms:modified>
  <cp:revision>10</cp:revision>
  <dc:subject/>
  <dc:title>Slide 1</dc:title>
</cp:coreProperties>
</file>