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13A-32AD-4455-B3FA-BCF3B5A7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383-BE83-4290-A071-5DBA92ED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691-55D3-4D54-B599-61E94679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81B-2D60-4211-9549-39E1215B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160-D868-4068-9CB3-35A027E6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84A-4C8D-4201-822C-535C5E9E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21C-E9BD-4588-A7C7-ED812C25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4BE-BC5F-4DDD-9CC4-0F10C5EF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FC3-D558-446A-A953-C78987D3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5264-6D3B-49D8-8AB3-D0B25F4B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48C-7254-4993-9AD3-189693AA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090-3B4F-4353-97F5-2E924B40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6825-A5FE-4D24-93D3-E45CC9EC9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297180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teac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19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nur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73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54097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n art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721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condu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452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bak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do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407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che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5257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police offic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612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scient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3067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5638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farm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1148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v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19112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firefigh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667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16T19:20:28Z</dcterms:modified>
  <cp:revision>5</cp:revision>
  <dc:subject/>
  <dc:title>Slide 1</dc:title>
</cp:coreProperties>
</file>