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8B6-CAE2-4DA4-A6F7-BB44D167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6DA-08B8-409A-8763-015018C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1AB-94AA-4F8D-8017-3AAB497A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005-CF5C-4C31-BE6B-1D4A7C00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A50-43B8-431F-A379-732DEAC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0AF-ED89-4DFD-B1D2-F113E6A7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240-81E4-4E91-A5D4-75A90A35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C6D-D4A8-42CA-984E-735D80CD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02C-95E6-483D-940E-DC0477A8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435-82EF-4DF0-B8E9-49BEF230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563-6632-457E-887D-A324896C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BA8-CA0A-430D-88E9-0DE0CA4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167-EEF5-42E1-97B1-0744D1674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97180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tea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nur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n ar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72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ondu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4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bak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do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0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che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police offic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61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scient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30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is a farm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114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v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911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is a firefigh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667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16T19:20:28Z</dcterms:modified>
  <cp:revision>5</cp:revision>
  <dc:subject/>
  <dc:title>Slide 1</dc:title>
</cp:coreProperties>
</file>