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683-2886-402A-AA02-8FCA7469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215-2816-4426-8C7E-8A85C40E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17F-850B-4F6C-9582-7E2FCDBB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844-4547-4ACC-ADB2-8DC5AF52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A2E-BBE3-4CB2-B7B9-4E92A689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29B-BD7D-4B4F-91CC-41B6FC5E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A42-CF5C-4441-A852-5F23737A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BD6-5550-485F-8131-8239DE08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393-C4E9-4A8C-AD64-8BFBE7D3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4AB-BB5E-48E7-BBDA-23A8664B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3C8-28AE-447B-A444-C517BAA5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2EF-65FB-41CB-A7B6-B800629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A234-CC35-49BE-B62D-B305FF0FE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97180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tea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nu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7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54097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n ar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72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ondu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4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bak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do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0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h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police offic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612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scien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306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farm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1148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v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1911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firefigh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667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16T19:20:28Z</dcterms:modified>
  <cp:revision>5</cp:revision>
  <dc:subject/>
  <dc:title>Slide 1</dc:title>
</cp:coreProperties>
</file>