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B6DD-13B0-492D-AC48-B90C7D47F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C5CA-C4E1-4FFF-A048-9921DFB6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3012-67AA-4590-906A-E04591C0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18AA-515D-43CE-9DBD-758C233C0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3EF7-5769-499F-879C-46480983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708D-CCBC-4D21-A4AD-54320B01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7CC7-D46D-419F-B3E4-B78E57E6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BF7C-3878-474D-8CE3-1AA8408D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5F19-F5BC-43C4-B998-F68A87C9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83C7-3B48-403A-933D-25EA436D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58C5-50AA-46A6-B2EF-EC6CB902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C380-9F58-4B8B-8D4E-F20B7427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4069-FE03-4155-B1D0-A6F93C1A8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4/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Unit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Beginning and Early Intermed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Topic of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3276720"/>
            <a:ext cx="2971800" cy="18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105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 teac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819520" y="1371600"/>
            <a:ext cx="3193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 nur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2773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5409720"/>
            <a:ext cx="8001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n arti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352680" y="1219320"/>
            <a:ext cx="2721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5181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 conducto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76720" y="1295280"/>
            <a:ext cx="2452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42670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54100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 bake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2767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is a docto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407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 chef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24080" y="1676520"/>
            <a:ext cx="29210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52578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is a police offic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26128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 scienti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124080" y="1143000"/>
            <a:ext cx="3067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56386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 farm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411480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is a ve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419112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is a firefigh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2667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6:36:47Z</dcterms:created>
  <dc:creator>118691</dc:creator>
  <dc:description/>
  <dc:language>en-US</dc:language>
  <cp:lastModifiedBy>118691</cp:lastModifiedBy>
  <dcterms:modified xsi:type="dcterms:W3CDTF">2010-03-16T19:20:28Z</dcterms:modified>
  <cp:revision>5</cp:revision>
  <dc:subject/>
  <dc:title>Slide 1</dc:title>
</cp:coreProperties>
</file>