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2D73-F8C8-420E-9572-39DF24837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8CDE-2FAE-450B-9A2C-F8BE5AB86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1C87-8A70-4FB6-BB51-AAF8016A9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14D7-07CF-4347-A8AF-7EA45AF85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BDB6-257F-45D9-81A4-1ECE4BE6F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5F13-A07E-4368-8053-8D65BE9BE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023C-ACD3-460F-8EB3-CA34B69ED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63E6-B65E-4243-B305-F0ED06E97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0C43-9862-4B09-A007-72AD1A6CC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8960-447A-4439-A29B-30CDEE89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5D32-C5CF-40B9-9E25-AE181AF0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55D7-7850-4BD0-849C-F46F99C3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DEAE1-3BF0-4DEB-9562-8C2CA096C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Unit 6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4/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57150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entury Gothic"/>
              </a:rPr>
              <a:t>Weather/Seas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352680" y="2133720"/>
            <a:ext cx="23036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How is the weather?</a:t>
            </a: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37720" y="5562360"/>
            <a:ext cx="7620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entury Gothic"/>
              </a:rPr>
              <a:t>The weather is sunn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743200" y="1600200"/>
            <a:ext cx="3581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How is the weather?</a:t>
            </a:r>
            <a:br>
              <a:rPr sz="4000"/>
            </a:b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95280" y="54097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The weather is snow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403884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How is the weather?</a:t>
            </a: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556236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entury Gothic"/>
              </a:rPr>
              <a:t>The weather is wind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438280" y="1523880"/>
            <a:ext cx="4267440" cy="35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How is the weather?</a:t>
            </a:r>
            <a:br>
              <a:rPr sz="4000"/>
            </a:b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42640" y="556236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eather is rain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819520" y="1447920"/>
            <a:ext cx="3497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How is the weather?</a:t>
            </a:r>
            <a:br>
              <a:rPr sz="4000"/>
            </a:b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676520" y="57150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entury Gothic"/>
              </a:rPr>
              <a:t>The weather is col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5105520" cy="44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How is the weather?</a:t>
            </a: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90720" y="56386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eather is ho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38280" y="1752480"/>
            <a:ext cx="4038840" cy="36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How is the weather?</a:t>
            </a:r>
            <a:br>
              <a:rPr sz="4000"/>
            </a:b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762120" y="5791320"/>
            <a:ext cx="7619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eather is cloud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743200" y="1600200"/>
            <a:ext cx="3886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15:50:08Z</dcterms:created>
  <dc:creator>118691</dc:creator>
  <dc:description/>
  <dc:language>en-US</dc:language>
  <cp:lastModifiedBy>Shelby Madden</cp:lastModifiedBy>
  <dcterms:modified xsi:type="dcterms:W3CDTF">2010-05-13T23:01:15Z</dcterms:modified>
  <cp:revision>6</cp:revision>
  <dc:subject/>
  <dc:title>Slide 1</dc:title>
</cp:coreProperties>
</file>