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0C5B-EE9E-4989-B040-C7684E68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2ED-3CF4-4F63-8B7A-BBB3B757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3D3-046D-4A24-9AC1-05C6F425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48B-55DE-402F-9498-9ECECD2C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0527-B373-421E-883F-900DDBAA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DF26-41E4-47B7-A5FB-12F3DE9E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A8D-65D9-4426-87AC-10487116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004-804C-4814-AD8A-B1EE9455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9A18-1514-4137-AE9F-11A11BDC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973-AFC4-4090-B189-4E20502A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F17B-BA53-4A70-AF70-8A49ED5F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2853-F855-4D68-85BC-968BEB54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86D9-0A5A-4216-8F0E-35E1A5A6F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4/5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Unit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Emo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1366920" cy="1752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10280" y="2819520"/>
            <a:ext cx="1449360" cy="1676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14400" y="2819520"/>
            <a:ext cx="15526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Frighten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Surpris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506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Ang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7242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Nervou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948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Bor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019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Embarrass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6479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Frighten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41972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Happ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767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Miser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72428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Sh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5720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Irritat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825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1:59:15Z</dcterms:created>
  <dc:creator>118691</dc:creator>
  <dc:description/>
  <dc:language>en-US</dc:language>
  <cp:lastModifiedBy>Shelby Madden</cp:lastModifiedBy>
  <dcterms:modified xsi:type="dcterms:W3CDTF">2010-05-13T22:58:11Z</dcterms:modified>
  <cp:revision>3</cp:revision>
  <dc:subject/>
  <dc:title>4/5 Unit 6</dc:title>
</cp:coreProperties>
</file>