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10F-AED5-46BF-9B50-E058D0CC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D60-68D5-4B4C-8A2D-D5C9EE14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992-D6FB-4106-BE46-15D4F9B9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BB3-DB0A-4A0F-A2A2-628C3D75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524-FC8A-408A-82F3-848EEE29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41B-C30C-4F57-9EF8-B3A7CBC0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107-4EA9-474E-BFEB-229CF179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39F4-ECE4-4DBA-94F6-6872A4EA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3300-A43D-4BF1-8608-E4266184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158-110F-49A8-B917-293625F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1A0-F1D0-4A86-83D6-5653C56B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FFF0-CE50-42AD-8E7A-217AA22B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2873-CAAF-4FAA-97ED-CAE88B1A3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4/5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Unit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Emo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136692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10280" y="2819520"/>
            <a:ext cx="1449360" cy="1676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14400" y="2819520"/>
            <a:ext cx="15526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Frighten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Surpris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506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Ang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7242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Nervo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48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Bor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019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Embarrass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6479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Frighten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4197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Happ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767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Miser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72428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Sh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Irrita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825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59:15Z</dcterms:created>
  <dc:creator>118691</dc:creator>
  <dc:description/>
  <dc:language>en-US</dc:language>
  <cp:lastModifiedBy>Shelby Madden</cp:lastModifiedBy>
  <dcterms:modified xsi:type="dcterms:W3CDTF">2010-05-13T22:58:11Z</dcterms:modified>
  <cp:revision>3</cp:revision>
  <dc:subject/>
  <dc:title>4/5 Unit 6</dc:title>
</cp:coreProperties>
</file>