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A7E-50B7-4443-8DD2-074361B2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A87-8989-4088-B9F7-0AA3653C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0DB-741A-43DB-AD5F-48BD478E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DCF-EF6F-433B-BAE6-09028564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EC6-6A2C-4694-B194-9D2D71FA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1EF-A0E2-4DB4-9BC3-8B75433C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654-0C38-4C4A-8560-C3B2AA41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820-8FA5-42A2-977A-B42216AC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913-92DE-470E-B769-5BAFCD7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ACD-FD76-43B9-AAC0-FB228E9D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AA3-058B-4EC3-AB7B-A0F9D832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9CA-AD29-4D64-8182-0C3D6F0B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2D9-D716-46FF-AEA6-92029970E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/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52578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Between Pe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7129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971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cheerful!  They played with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724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55627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angry!  S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038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ad.  He ignored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urprised!  He hit m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frustrated!  She won’t talk to 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627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57150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disappointed.  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25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56386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embarrassed. He tripped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1148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54864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happy!  He shared with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2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overjoyed! She took turns wi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59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20:36Z</dcterms:created>
  <dc:creator>118691</dc:creator>
  <dc:description/>
  <dc:language>en-US</dc:language>
  <cp:lastModifiedBy>Shelby Madden</cp:lastModifiedBy>
  <dcterms:modified xsi:type="dcterms:W3CDTF">2010-05-13T22:56:42Z</dcterms:modified>
  <cp:revision>7</cp:revision>
  <dc:subject/>
  <dc:title>Slide 1</dc:title>
</cp:coreProperties>
</file>