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5DC-BFF1-444E-830D-1D995571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BAB-DB3C-4613-B300-C4A2ACF6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41A-C2B1-4770-86A8-0DBDB61E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38A-81DC-4385-9964-F1A9AF7B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F4D-F121-44E6-927A-62194379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580-F06F-414D-B53A-D3C96281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A3E-20DD-4BF7-A739-6482CDEE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1E9-5B92-4EF8-99C3-32EF310A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C4F-0A6C-4DBB-ACE1-D59CB151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8CC-B8F6-4E28-A6AC-1B9C8516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296-D423-4493-9CF0-A6AA8B5D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EC1-1820-4708-B4C9-42BF3283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B5CD-AB84-44AD-AC5F-BE13F39C4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/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52578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Between Pe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71296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29718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cheerful!  They played with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7242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55627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angry!  S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0388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ad.  He ignored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urprised!  He hit m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frustrated!  She won’t talk to 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627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57150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disappointed.  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25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56386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embarrassed. He tripped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1148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54864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happy!  He shared with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24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520" y="55627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overjoyed! She took turns wi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59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20:36Z</dcterms:created>
  <dc:creator>118691</dc:creator>
  <dc:description/>
  <dc:language>en-US</dc:language>
  <cp:lastModifiedBy>Shelby Madden</cp:lastModifiedBy>
  <dcterms:modified xsi:type="dcterms:W3CDTF">2010-05-13T22:56:42Z</dcterms:modified>
  <cp:revision>7</cp:revision>
  <dc:subject/>
  <dc:title>Slide 1</dc:title>
</cp:coreProperties>
</file>