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8CF-4C05-4D2E-BC88-7B431DA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8B5-D919-4A88-B53B-AAE88E07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1B5-39EE-4FC1-B57E-81B4A31F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AF2-0C45-4104-AEAA-8163E7AD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B97-B37B-4AAA-A7AE-F5E5FD80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828-F084-4251-93F8-4BFAE4A6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3E6-7243-491B-9C92-EC23114D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C1C-3CFC-4E56-947D-2FC2EDB7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CD4-BFCE-4865-8776-A952B61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792-EF46-41ED-B7DE-AFDBC12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485-B19E-401E-87EA-153A043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8C8-7F88-489B-8B1B-4559AD6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E52B-1B3F-4A94-B530-FE35A054D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33cc33"/>
                </a:solidFill>
                <a:latin typeface="Kristen ITC"/>
              </a:rPr>
              <a:t>Social Courte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725.thb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eat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2946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 slide with you?    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OK!    Thank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slide?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59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 to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w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81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hopscotch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hopsco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1559508.thb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6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t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19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read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089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jump rope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jump 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1559725.thb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724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tag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play t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08Z</dcterms:modified>
  <cp:revision>10</cp:revision>
  <dc:subject/>
  <dc:title>Slide 1</dc:title>
</cp:coreProperties>
</file>