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493B-FC89-4AD3-BBE7-F4AA20941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286A-6441-4E9C-BB53-0E368C523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64DF-C80D-45D3-9606-CB2798ED6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6C5B-F5C5-4ADB-9D8C-CC9A63A1D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CA3F-68FE-423B-876D-89DA710DF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A14C-C0B5-4B41-A873-DC3460675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301A-EDE8-4CD7-B764-7A1482702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9ACE-8E3A-43E7-8E22-5D2696127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4E78-E5FB-415B-AB54-CF676770E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D6DC-1014-4578-A434-6805182C7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DB07-92C9-4C81-A187-1D5C406B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E71B-F97F-461D-BC68-4E1EE7AD1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EF861-6AF3-4F3A-95E4-2D4FF9249B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4/5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Unit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457200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Beginning and Early Intermed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Topic:  </a:t>
            </a:r>
            <a:r>
              <a:rPr b="0" lang="en-US" sz="3200" spc="-1" strike="noStrike">
                <a:solidFill>
                  <a:srgbClr val="33cc33"/>
                </a:solidFill>
                <a:latin typeface="Kristen ITC"/>
              </a:rPr>
              <a:t>Social Courtes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21559725.thb" descr=""/>
          <p:cNvPicPr/>
          <p:nvPr/>
        </p:nvPicPr>
        <p:blipFill>
          <a:blip r:embed="rId1"/>
          <a:stretch/>
        </p:blipFill>
        <p:spPr>
          <a:xfrm>
            <a:off x="2895480" y="1981080"/>
            <a:ext cx="342900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n I eat with you?</a:t>
            </a:r>
            <a:br>
              <a:rPr sz="4000"/>
            </a:b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OK!  Thank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48002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you want to e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Ye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895480" y="1523880"/>
            <a:ext cx="294660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n I slide with you?     </a:t>
            </a:r>
            <a:br>
              <a:rPr sz="3600"/>
            </a:br>
            <a:r>
              <a:rPr b="0" lang="en-US" sz="3600" spc="-1" strike="noStrike">
                <a:solidFill>
                  <a:srgbClr val="33cc33"/>
                </a:solidFill>
                <a:latin typeface="Arial"/>
              </a:rPr>
              <a:t>OK!    Thanks!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 you want to slide?</a:t>
            </a:r>
            <a:br>
              <a:rPr sz="3600"/>
            </a:br>
            <a:r>
              <a:rPr b="0" lang="en-US" sz="3600" spc="-1" strike="noStrike">
                <a:solidFill>
                  <a:srgbClr val="33cc33"/>
                </a:solidFill>
                <a:latin typeface="Arial"/>
              </a:rPr>
              <a:t>Ye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276720" y="1676520"/>
            <a:ext cx="25938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n I play with you?</a:t>
            </a:r>
            <a:br>
              <a:rPr sz="4000"/>
            </a:b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OK!  Thank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47242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you wan to pl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Ye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1676520"/>
            <a:ext cx="365760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n I walk with you?</a:t>
            </a:r>
            <a:br>
              <a:rPr sz="4000"/>
            </a:b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OK!  Thank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48002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you want to wal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Ye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971800" y="1523880"/>
            <a:ext cx="28130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n I hopscotch with you?</a:t>
            </a:r>
            <a:br>
              <a:rPr sz="4000"/>
            </a:b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OK!  Thanks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49528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you want to hopscotch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Ye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21559508.thb" descr=""/>
          <p:cNvPicPr/>
          <p:nvPr/>
        </p:nvPicPr>
        <p:blipFill>
          <a:blip r:embed="rId1"/>
          <a:stretch/>
        </p:blipFill>
        <p:spPr>
          <a:xfrm>
            <a:off x="3048120" y="1600200"/>
            <a:ext cx="28699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n I talk with you?</a:t>
            </a:r>
            <a:br>
              <a:rPr sz="4000"/>
            </a:b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OK!  Thanks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48002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you want to tal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Ye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362320" y="2057400"/>
            <a:ext cx="4190760" cy="27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n I read with you?</a:t>
            </a:r>
            <a:br>
              <a:rPr sz="4000"/>
            </a:b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OK!  Thank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45720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you want to rea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Ye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95480" y="1523880"/>
            <a:ext cx="308952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n I jump rope with you?</a:t>
            </a:r>
            <a:br>
              <a:rPr sz="4000"/>
            </a:b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OK!  Thank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48765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you want to jump rop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Ye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21559725.thb" descr=""/>
          <p:cNvPicPr/>
          <p:nvPr/>
        </p:nvPicPr>
        <p:blipFill>
          <a:blip r:embed="rId1"/>
          <a:stretch/>
        </p:blipFill>
        <p:spPr>
          <a:xfrm>
            <a:off x="2438280" y="1676520"/>
            <a:ext cx="47246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n I play tag with you?</a:t>
            </a:r>
            <a:br>
              <a:rPr sz="4000"/>
            </a:b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OK!  Thank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5028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you want to play ta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Ye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895480" y="1447920"/>
            <a:ext cx="3429000" cy="32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4T16:36:47Z</dcterms:created>
  <dc:creator>118691</dc:creator>
  <dc:description/>
  <dc:language>en-US</dc:language>
  <cp:lastModifiedBy>118691</cp:lastModifiedBy>
  <dcterms:modified xsi:type="dcterms:W3CDTF">2010-03-09T17:30:08Z</dcterms:modified>
  <cp:revision>10</cp:revision>
  <dc:subject/>
  <dc:title>Slide 1</dc:title>
</cp:coreProperties>
</file>