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EE5-A2BC-4DC3-97FD-1037D3EB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723-A013-4FD1-91E9-531CB729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655-DA3F-42C3-B1EA-C2941E56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66E2-F59E-4D5A-94A6-96529CAA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08A-C128-47C5-9FEB-FC9F2548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B44-A4A5-49EE-9AB0-BE9F8EB4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DB6-C209-42AE-86FA-10FEF49E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166-C431-4167-9703-0F1A72DF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E1D-47B7-45E1-95DA-67006F15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595-831C-4184-8C12-F3569B2E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756-4667-4B65-B5FC-C4BDA2A6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5750-CFFF-429A-A02F-2512B4A1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3ED5-24E5-4D61-96E2-6209E9B3F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4/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Unit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eginning and Early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opic:  </a:t>
            </a:r>
            <a:r>
              <a:rPr b="0" lang="en-US" sz="3200" spc="-1" strike="noStrike">
                <a:solidFill>
                  <a:srgbClr val="00ccff"/>
                </a:solidFill>
                <a:latin typeface="Kristen ITC"/>
              </a:rPr>
              <a:t>Re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0481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wh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30481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enn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enn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yell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93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c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c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black and wh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it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it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996633"/>
                </a:solidFill>
                <a:latin typeface="Arial"/>
              </a:rPr>
              <a:t>brow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849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ke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asketbal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dark orang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3526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996633"/>
                </a:solidFill>
                <a:latin typeface="Arial"/>
              </a:rPr>
              <a:t>brow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673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elme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elme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blu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5049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6:36:47Z</dcterms:created>
  <dc:creator>118691</dc:creator>
  <dc:description/>
  <dc:language>en-US</dc:language>
  <cp:lastModifiedBy>118691</cp:lastModifiedBy>
  <dcterms:modified xsi:type="dcterms:W3CDTF">2010-03-09T17:30:36Z</dcterms:modified>
  <cp:revision>10</cp:revision>
  <dc:subject/>
  <dc:title>Slide 1</dc:title>
</cp:coreProperties>
</file>