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A4D-4056-46A8-A211-95C9999E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CE7-203F-4B8D-B6BC-2DFB445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66D-7F25-422E-B64D-CAA0E45C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63E-B43D-417A-9AED-44139633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9AC-1312-4D3D-B631-FFB8A4C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B17-503B-43DD-8285-D83DADB1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E21-93C7-4ECB-8F75-42C376C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550-B892-4F83-B4B4-1041678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C24-4F45-414F-BE33-0BE5ED6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DF0-BD9E-4936-B516-2A2FE64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20E-7E25-4BFB-9441-157474A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9E6-45D4-4C99-A1BC-1CF57C5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4BE4-0174-4468-8E34-80CE0410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9718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nu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n ar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72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bak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0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h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police offic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61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scien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far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114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v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firefigh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16T19:20:28Z</dcterms:modified>
  <cp:revision>5</cp:revision>
  <dc:subject/>
  <dc:title>Slide 1</dc:title>
</cp:coreProperties>
</file>