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383B8-D714-4B02-99EA-C8462CC6E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2CFC5-DA0D-43F8-A05C-22D117BA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A772-B619-45BA-9527-DE39EB3E3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0C65A-5E00-4C31-A517-9B279F610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CE645-2DED-4BE7-B300-EFAFA4BE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EFCD4-E267-4C65-B614-374915340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C082C-C5BF-44E4-A10E-BC1202C72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84EFA-62E9-43C9-9A63-D5763E3B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D4681-2BCA-44DD-B734-72594A58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58B5-563F-43AB-A10B-99CB2CB6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0BD2A-658E-447C-AF3F-AE4B9D69D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4069-252D-497E-8F8D-17DDBDE37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07E8-A022-427F-A79E-80F3AAB44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8:53:46Z</dcterms:modified>
  <cp:revision>5</cp:revision>
  <dc:subject/>
  <dc:title>Slide 1</dc:title>
</cp:coreProperties>
</file>