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1D6-2005-4325-AFD7-BF6D765E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999-D736-476A-A7BB-8CE826E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CE8-9D5C-4FBF-9EAD-5F36D4A0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699-7D55-4367-A69C-E1D06571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84B-30CD-464F-BFD3-578CEDFA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4C9-EF80-4F97-AD7E-8125024E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BCA-ED79-4C2A-B8DC-7D37495F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213-0DE5-4D4E-9570-C289F1FE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6EB-F041-47EF-903C-0CF07D87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837-2EDA-4204-9871-D6A93ACD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1F5-F9E8-4003-9DBA-CD8B39B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4D5-B720-4B16-8B8A-6D18634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6E04-303F-4662-ADD6-52A6C660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shanghaiist.com/attachments/claudinekharris/napkins.jpg"/>
          <p:cNvPicPr/>
          <p:nvPr/>
        </p:nvPicPr>
        <p:blipFill>
          <a:blip r:embed="rId1"/>
          <a:stretch/>
        </p:blipFill>
        <p:spPr>
          <a:xfrm>
            <a:off x="63360" y="781200"/>
            <a:ext cx="3238560" cy="34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www.kodak.com/global/images/mul/corp/tpc/create/special_events/projects/photo_napkin_rings/photoNapkinRings_step4.jpg"/>
          <p:cNvPicPr/>
          <p:nvPr/>
        </p:nvPicPr>
        <p:blipFill>
          <a:blip r:embed="rId2"/>
          <a:stretch/>
        </p:blipFill>
        <p:spPr>
          <a:xfrm>
            <a:off x="3657600" y="257040"/>
            <a:ext cx="3038400" cy="404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ttp://necessarycool.com/wp-content/uploads/2009/11/spork.jpg"/>
          <p:cNvPicPr/>
          <p:nvPr/>
        </p:nvPicPr>
        <p:blipFill>
          <a:blip r:embed="rId3"/>
          <a:stretch/>
        </p:blipFill>
        <p:spPr>
          <a:xfrm>
            <a:off x="533520" y="4848120"/>
            <a:ext cx="2057400" cy="383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tweakheadz.com/images/spoon-1.jpg"/>
          <p:cNvPicPr/>
          <p:nvPr/>
        </p:nvPicPr>
        <p:blipFill>
          <a:blip r:embed="rId4"/>
          <a:srcRect l="5253" t="0" r="0" b="0"/>
          <a:stretch/>
        </p:blipFill>
        <p:spPr>
          <a:xfrm>
            <a:off x="3657600" y="5181480"/>
            <a:ext cx="3048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webstaurantstore.com/regency-11-1-2-banquet-serving-fork/regency-11-1-2-banquet-serving-fork.jpg"/>
          <p:cNvPicPr/>
          <p:nvPr/>
        </p:nvPicPr>
        <p:blipFill>
          <a:blip r:embed="rId1"/>
          <a:srcRect l="26972" t="0" r="21353" b="0"/>
          <a:stretch/>
        </p:blipFill>
        <p:spPr>
          <a:xfrm>
            <a:off x="609480" y="152280"/>
            <a:ext cx="2210040" cy="427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partycentral.org/images/rentals/rental-item-silver-plated-sussex-pattern-butter-knife-234.jpg"/>
          <p:cNvPicPr/>
          <p:nvPr/>
        </p:nvPicPr>
        <p:blipFill>
          <a:blip r:embed="rId2"/>
          <a:srcRect l="2314" t="6402" r="6773" b="0"/>
          <a:stretch/>
        </p:blipFill>
        <p:spPr>
          <a:xfrm>
            <a:off x="3624120" y="76320"/>
            <a:ext cx="3005280" cy="44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appetitebooks.ca/images/cms/Image/Knife.jpg"/>
          <p:cNvPicPr/>
          <p:nvPr/>
        </p:nvPicPr>
        <p:blipFill>
          <a:blip r:embed="rId3"/>
          <a:stretch/>
        </p:blipFill>
        <p:spPr>
          <a:xfrm>
            <a:off x="304920" y="54864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files.turbosquid.com/Preview/Content_2009_07_13__19_31_08/Utensils_Set.jpgD3A89DF9-944E-427C-B45AB4394F1A6B6A.jpgLarge.jpg"/>
          <p:cNvPicPr/>
          <p:nvPr/>
        </p:nvPicPr>
        <p:blipFill>
          <a:blip r:embed="rId4"/>
          <a:stretch/>
        </p:blipFill>
        <p:spPr>
          <a:xfrm>
            <a:off x="3581280" y="5181480"/>
            <a:ext cx="3124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springsbargains.com/wp-content/uploads/2009/11/milk.jpg"/>
          <p:cNvPicPr/>
          <p:nvPr/>
        </p:nvPicPr>
        <p:blipFill>
          <a:blip r:embed="rId1"/>
          <a:srcRect l="10753" t="0" r="9254" b="0"/>
          <a:stretch/>
        </p:blipFill>
        <p:spPr>
          <a:xfrm>
            <a:off x="533520" y="171360"/>
            <a:ext cx="2361960" cy="424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engagingconflicts.com/wp-content/coffee-cup-01.jpg"/>
          <p:cNvPicPr/>
          <p:nvPr/>
        </p:nvPicPr>
        <p:blipFill>
          <a:blip r:embed="rId2"/>
          <a:srcRect l="14306" t="9341" r="13871" b="13617"/>
          <a:stretch/>
        </p:blipFill>
        <p:spPr>
          <a:xfrm>
            <a:off x="3581280" y="106668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www.thedailygreen.com/cm/thedailygreen/images/FI/orange-juice-potassium-lg.jpg"/>
          <p:cNvPicPr/>
          <p:nvPr/>
        </p:nvPicPr>
        <p:blipFill>
          <a:blip r:embed="rId3"/>
          <a:srcRect l="0" t="10435" r="0" b="0"/>
          <a:stretch/>
        </p:blipFill>
        <p:spPr>
          <a:xfrm>
            <a:off x="0" y="4876920"/>
            <a:ext cx="3429000" cy="392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http://nateliston.files.wordpress.com/2008/05/soda.jpg"/>
          <p:cNvPicPr/>
          <p:nvPr/>
        </p:nvPicPr>
        <p:blipFill>
          <a:blip r:embed="rId4"/>
          <a:stretch/>
        </p:blipFill>
        <p:spPr>
          <a:xfrm>
            <a:off x="3692520" y="4952880"/>
            <a:ext cx="2784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http://triathlons.thefuntimesguide.com/images/blogs/water-bottle-glass-by-nkzs.jpg"/>
          <p:cNvPicPr/>
          <p:nvPr/>
        </p:nvPicPr>
        <p:blipFill>
          <a:blip r:embed="rId1"/>
          <a:stretch/>
        </p:blipFill>
        <p:spPr>
          <a:xfrm>
            <a:off x="277920" y="1158840"/>
            <a:ext cx="2955960" cy="249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www.pateira.net/storage/bottled-water.jpg?__SQUARESPACE_CACHEVERSION=1245790604235"/>
          <p:cNvPicPr/>
          <p:nvPr/>
        </p:nvPicPr>
        <p:blipFill>
          <a:blip r:embed="rId2"/>
          <a:srcRect l="21067" t="0" r="17069" b="0"/>
          <a:stretch/>
        </p:blipFill>
        <p:spPr>
          <a:xfrm>
            <a:off x="4038480" y="244440"/>
            <a:ext cx="19814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3T22:04:01Z</dcterms:modified>
  <cp:revision>24</cp:revision>
  <dc:subject/>
  <dc:title>Slide 1</dc:title>
</cp:coreProperties>
</file>