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DAA-B09D-49FF-A719-72E26717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88B4-EC39-4900-86E5-6314E748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700-C6FC-424A-9CFB-4F4C43C1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4B0-4CB1-4678-91DE-F194BDD7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9EF7-4213-490B-9DFB-E4454DD2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624-FA24-4D04-BEA2-B71F6C6F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7D24-61F2-4E9B-8A8F-47AFBEA7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B98-6B24-4B27-A9F1-355B519B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8C71-5EE9-4E6F-888D-D97DFB7B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7C31-64CC-42FB-A8B7-BE1CB839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E576-2808-4C14-83CF-FFAF63CF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5D4-B8E0-4C46-9B75-A6A0088E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73F5-8111-4E9A-9C27-2D5BE0AB9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shanghaiist.com/attachments/claudinekharris/napkins.jpg"/>
          <p:cNvPicPr/>
          <p:nvPr/>
        </p:nvPicPr>
        <p:blipFill>
          <a:blip r:embed="rId1"/>
          <a:stretch/>
        </p:blipFill>
        <p:spPr>
          <a:xfrm>
            <a:off x="63360" y="781200"/>
            <a:ext cx="3238560" cy="3485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ttp://www.kodak.com/global/images/mul/corp/tpc/create/special_events/projects/photo_napkin_rings/photoNapkinRings_step4.jpg"/>
          <p:cNvPicPr/>
          <p:nvPr/>
        </p:nvPicPr>
        <p:blipFill>
          <a:blip r:embed="rId2"/>
          <a:stretch/>
        </p:blipFill>
        <p:spPr>
          <a:xfrm>
            <a:off x="3657600" y="257040"/>
            <a:ext cx="3038400" cy="4048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http://necessarycool.com/wp-content/uploads/2009/11/spork.jpg"/>
          <p:cNvPicPr/>
          <p:nvPr/>
        </p:nvPicPr>
        <p:blipFill>
          <a:blip r:embed="rId3"/>
          <a:stretch/>
        </p:blipFill>
        <p:spPr>
          <a:xfrm>
            <a:off x="533520" y="4848120"/>
            <a:ext cx="2057400" cy="383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ttp://www.tweakheadz.com/images/spoon-1.jpg"/>
          <p:cNvPicPr/>
          <p:nvPr/>
        </p:nvPicPr>
        <p:blipFill>
          <a:blip r:embed="rId4"/>
          <a:srcRect l="5253" t="0" r="0" b="0"/>
          <a:stretch/>
        </p:blipFill>
        <p:spPr>
          <a:xfrm>
            <a:off x="3657600" y="5181480"/>
            <a:ext cx="3048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webstaurantstore.com/regency-11-1-2-banquet-serving-fork/regency-11-1-2-banquet-serving-fork.jpg"/>
          <p:cNvPicPr/>
          <p:nvPr/>
        </p:nvPicPr>
        <p:blipFill>
          <a:blip r:embed="rId1"/>
          <a:srcRect l="26972" t="0" r="21353" b="0"/>
          <a:stretch/>
        </p:blipFill>
        <p:spPr>
          <a:xfrm>
            <a:off x="609480" y="152280"/>
            <a:ext cx="2210040" cy="4275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partycentral.org/images/rentals/rental-item-silver-plated-sussex-pattern-butter-knife-234.jpg"/>
          <p:cNvPicPr/>
          <p:nvPr/>
        </p:nvPicPr>
        <p:blipFill>
          <a:blip r:embed="rId2"/>
          <a:srcRect l="2314" t="6402" r="6773" b="0"/>
          <a:stretch/>
        </p:blipFill>
        <p:spPr>
          <a:xfrm>
            <a:off x="3624120" y="76320"/>
            <a:ext cx="3005280" cy="445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http://www.appetitebooks.ca/images/cms/Image/Knife.jpg"/>
          <p:cNvPicPr/>
          <p:nvPr/>
        </p:nvPicPr>
        <p:blipFill>
          <a:blip r:embed="rId3"/>
          <a:stretch/>
        </p:blipFill>
        <p:spPr>
          <a:xfrm>
            <a:off x="304920" y="54864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http://files.turbosquid.com/Preview/Content_2009_07_13__19_31_08/Utensils_Set.jpgD3A89DF9-944E-427C-B45AB4394F1A6B6A.jpgLarge.jpg"/>
          <p:cNvPicPr/>
          <p:nvPr/>
        </p:nvPicPr>
        <p:blipFill>
          <a:blip r:embed="rId4"/>
          <a:stretch/>
        </p:blipFill>
        <p:spPr>
          <a:xfrm>
            <a:off x="3581280" y="5181480"/>
            <a:ext cx="31244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springsbargains.com/wp-content/uploads/2009/11/milk.jpg"/>
          <p:cNvPicPr/>
          <p:nvPr/>
        </p:nvPicPr>
        <p:blipFill>
          <a:blip r:embed="rId1"/>
          <a:srcRect l="10753" t="0" r="9254" b="0"/>
          <a:stretch/>
        </p:blipFill>
        <p:spPr>
          <a:xfrm>
            <a:off x="533520" y="171360"/>
            <a:ext cx="2361960" cy="424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://engagingconflicts.com/wp-content/coffee-cup-01.jpg"/>
          <p:cNvPicPr/>
          <p:nvPr/>
        </p:nvPicPr>
        <p:blipFill>
          <a:blip r:embed="rId2"/>
          <a:srcRect l="14306" t="9341" r="13871" b="13617"/>
          <a:stretch/>
        </p:blipFill>
        <p:spPr>
          <a:xfrm>
            <a:off x="3581280" y="1066680"/>
            <a:ext cx="312444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http://www.thedailygreen.com/cm/thedailygreen/images/FI/orange-juice-potassium-lg.jpg"/>
          <p:cNvPicPr/>
          <p:nvPr/>
        </p:nvPicPr>
        <p:blipFill>
          <a:blip r:embed="rId3"/>
          <a:srcRect l="0" t="10435" r="0" b="0"/>
          <a:stretch/>
        </p:blipFill>
        <p:spPr>
          <a:xfrm>
            <a:off x="0" y="4876920"/>
            <a:ext cx="3429000" cy="392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http://nateliston.files.wordpress.com/2008/05/soda.jpg"/>
          <p:cNvPicPr/>
          <p:nvPr/>
        </p:nvPicPr>
        <p:blipFill>
          <a:blip r:embed="rId4"/>
          <a:stretch/>
        </p:blipFill>
        <p:spPr>
          <a:xfrm>
            <a:off x="3692520" y="4952880"/>
            <a:ext cx="27846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http://triathlons.thefuntimesguide.com/images/blogs/water-bottle-glass-by-nkzs.jpg"/>
          <p:cNvPicPr/>
          <p:nvPr/>
        </p:nvPicPr>
        <p:blipFill>
          <a:blip r:embed="rId1"/>
          <a:stretch/>
        </p:blipFill>
        <p:spPr>
          <a:xfrm>
            <a:off x="277920" y="1158840"/>
            <a:ext cx="2955960" cy="2498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http://www.pateira.net/storage/bottled-water.jpg?__SQUARESPACE_CACHEVERSION=1245790604235"/>
          <p:cNvPicPr/>
          <p:nvPr/>
        </p:nvPicPr>
        <p:blipFill>
          <a:blip r:embed="rId2"/>
          <a:srcRect l="21067" t="0" r="17069" b="0"/>
          <a:stretch/>
        </p:blipFill>
        <p:spPr>
          <a:xfrm>
            <a:off x="4038480" y="244440"/>
            <a:ext cx="19814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3T22:04:01Z</dcterms:modified>
  <cp:revision>24</cp:revision>
  <dc:subject/>
  <dc:title>Slide 1</dc:title>
</cp:coreProperties>
</file>