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48D-59BF-4B79-876A-7AB25347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38F-6D84-48AA-A232-8B869B55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FAE-CFB0-4D0C-9B56-8CFFAFE0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483-18F3-4503-B59A-731D1433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46D-1783-44C5-958B-26DE3B11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242-C438-44C1-B1DB-3B5E4467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707-F072-4F77-9171-CA05AC0A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FFF-EE49-4564-AD69-2838EFB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6DC-5394-4B7F-A705-1928685B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16F-A46D-4395-9775-1447C25B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0A6-51AA-4AE2-95C6-1F5D4309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670-4EA5-4F0D-B5E3-F7848663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0EEA-867E-498F-92C6-EE65D2BF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shanghaiist.com/attachments/claudinekharris/napkins.jpg"/>
          <p:cNvPicPr/>
          <p:nvPr/>
        </p:nvPicPr>
        <p:blipFill>
          <a:blip r:embed="rId1"/>
          <a:stretch/>
        </p:blipFill>
        <p:spPr>
          <a:xfrm>
            <a:off x="63360" y="781200"/>
            <a:ext cx="3238560" cy="34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www.kodak.com/global/images/mul/corp/tpc/create/special_events/projects/photo_napkin_rings/photoNapkinRings_step4.jpg"/>
          <p:cNvPicPr/>
          <p:nvPr/>
        </p:nvPicPr>
        <p:blipFill>
          <a:blip r:embed="rId2"/>
          <a:stretch/>
        </p:blipFill>
        <p:spPr>
          <a:xfrm>
            <a:off x="3657600" y="25704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necessarycool.com/wp-content/uploads/2009/11/spork.jpg"/>
          <p:cNvPicPr/>
          <p:nvPr/>
        </p:nvPicPr>
        <p:blipFill>
          <a:blip r:embed="rId3"/>
          <a:stretch/>
        </p:blipFill>
        <p:spPr>
          <a:xfrm>
            <a:off x="533520" y="4848120"/>
            <a:ext cx="205740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tweakheadz.com/images/spoon-1.jpg"/>
          <p:cNvPicPr/>
          <p:nvPr/>
        </p:nvPicPr>
        <p:blipFill>
          <a:blip r:embed="rId4"/>
          <a:srcRect l="5253" t="0" r="0" b="0"/>
          <a:stretch/>
        </p:blipFill>
        <p:spPr>
          <a:xfrm>
            <a:off x="3657600" y="5181480"/>
            <a:ext cx="3048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webstaurantstore.com/regency-11-1-2-banquet-serving-fork/regency-11-1-2-banquet-serving-fork.jpg"/>
          <p:cNvPicPr/>
          <p:nvPr/>
        </p:nvPicPr>
        <p:blipFill>
          <a:blip r:embed="rId1"/>
          <a:srcRect l="26972" t="0" r="21353" b="0"/>
          <a:stretch/>
        </p:blipFill>
        <p:spPr>
          <a:xfrm>
            <a:off x="609480" y="152280"/>
            <a:ext cx="2210040" cy="427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partycentral.org/images/rentals/rental-item-silver-plated-sussex-pattern-butter-knife-234.jpg"/>
          <p:cNvPicPr/>
          <p:nvPr/>
        </p:nvPicPr>
        <p:blipFill>
          <a:blip r:embed="rId2"/>
          <a:srcRect l="2314" t="6402" r="6773" b="0"/>
          <a:stretch/>
        </p:blipFill>
        <p:spPr>
          <a:xfrm>
            <a:off x="3624120" y="76320"/>
            <a:ext cx="3005280" cy="44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appetitebooks.ca/images/cms/Image/Knife.jpg"/>
          <p:cNvPicPr/>
          <p:nvPr/>
        </p:nvPicPr>
        <p:blipFill>
          <a:blip r:embed="rId3"/>
          <a:stretch/>
        </p:blipFill>
        <p:spPr>
          <a:xfrm>
            <a:off x="304920" y="54864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files.turbosquid.com/Preview/Content_2009_07_13__19_31_08/Utensils_Set.jpgD3A89DF9-944E-427C-B45AB4394F1A6B6A.jpgLarge.jpg"/>
          <p:cNvPicPr/>
          <p:nvPr/>
        </p:nvPicPr>
        <p:blipFill>
          <a:blip r:embed="rId4"/>
          <a:stretch/>
        </p:blipFill>
        <p:spPr>
          <a:xfrm>
            <a:off x="3581280" y="51814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springsbargains.com/wp-content/uploads/2009/11/milk.jpg"/>
          <p:cNvPicPr/>
          <p:nvPr/>
        </p:nvPicPr>
        <p:blipFill>
          <a:blip r:embed="rId1"/>
          <a:srcRect l="10753" t="0" r="9254" b="0"/>
          <a:stretch/>
        </p:blipFill>
        <p:spPr>
          <a:xfrm>
            <a:off x="533520" y="171360"/>
            <a:ext cx="2361960" cy="424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engagingconflicts.com/wp-content/coffee-cup-01.jpg"/>
          <p:cNvPicPr/>
          <p:nvPr/>
        </p:nvPicPr>
        <p:blipFill>
          <a:blip r:embed="rId2"/>
          <a:srcRect l="14306" t="9341" r="13871" b="13617"/>
          <a:stretch/>
        </p:blipFill>
        <p:spPr>
          <a:xfrm>
            <a:off x="3581280" y="106668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www.thedailygreen.com/cm/thedailygreen/images/FI/orange-juice-potassium-lg.jpg"/>
          <p:cNvPicPr/>
          <p:nvPr/>
        </p:nvPicPr>
        <p:blipFill>
          <a:blip r:embed="rId3"/>
          <a:srcRect l="0" t="10435" r="0" b="0"/>
          <a:stretch/>
        </p:blipFill>
        <p:spPr>
          <a:xfrm>
            <a:off x="0" y="4876920"/>
            <a:ext cx="3429000" cy="39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://nateliston.files.wordpress.com/2008/05/soda.jpg"/>
          <p:cNvPicPr/>
          <p:nvPr/>
        </p:nvPicPr>
        <p:blipFill>
          <a:blip r:embed="rId4"/>
          <a:stretch/>
        </p:blipFill>
        <p:spPr>
          <a:xfrm>
            <a:off x="3692520" y="4952880"/>
            <a:ext cx="2784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http://triathlons.thefuntimesguide.com/images/blogs/water-bottle-glass-by-nkzs.jpg"/>
          <p:cNvPicPr/>
          <p:nvPr/>
        </p:nvPicPr>
        <p:blipFill>
          <a:blip r:embed="rId1"/>
          <a:stretch/>
        </p:blipFill>
        <p:spPr>
          <a:xfrm>
            <a:off x="277920" y="1158840"/>
            <a:ext cx="295596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www.pateira.net/storage/bottled-water.jpg?__SQUARESPACE_CACHEVERSION=1245790604235"/>
          <p:cNvPicPr/>
          <p:nvPr/>
        </p:nvPicPr>
        <p:blipFill>
          <a:blip r:embed="rId2"/>
          <a:srcRect l="21067" t="0" r="17069" b="0"/>
          <a:stretch/>
        </p:blipFill>
        <p:spPr>
          <a:xfrm>
            <a:off x="4038480" y="244440"/>
            <a:ext cx="1981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3T22:04:01Z</dcterms:modified>
  <cp:revision>24</cp:revision>
  <dc:subject/>
  <dc:title>Slide 1</dc:title>
</cp:coreProperties>
</file>