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40C-65CE-4CED-B964-A11D1481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727-59C4-4271-9229-8C71DA10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F70-67D2-4122-856F-6774104F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40D-2A99-49CB-8207-4F074AE2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AB4-AD38-491F-8E37-AB77CE2A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270-B900-42E7-8FEC-FF4A2E79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46B-8E71-4844-B5FD-B85E555B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265-5964-418B-84A1-D647F391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F45-5D11-4688-B9CE-43C6BB50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F38-6C32-4DDE-8594-6DF49EED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540-554E-46E8-BC17-7E389BE9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9EF-33A7-4250-89A9-22449137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654E-CC99-440C-B62B-650CD1162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shanghaiist.com/attachments/claudinekharris/napkins.jpg"/>
          <p:cNvPicPr/>
          <p:nvPr/>
        </p:nvPicPr>
        <p:blipFill>
          <a:blip r:embed="rId1"/>
          <a:stretch/>
        </p:blipFill>
        <p:spPr>
          <a:xfrm>
            <a:off x="63360" y="781200"/>
            <a:ext cx="3238560" cy="34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www.kodak.com/global/images/mul/corp/tpc/create/special_events/projects/photo_napkin_rings/photoNapkinRings_step4.jpg"/>
          <p:cNvPicPr/>
          <p:nvPr/>
        </p:nvPicPr>
        <p:blipFill>
          <a:blip r:embed="rId2"/>
          <a:stretch/>
        </p:blipFill>
        <p:spPr>
          <a:xfrm>
            <a:off x="3657600" y="257040"/>
            <a:ext cx="3038400" cy="404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ttp://necessarycool.com/wp-content/uploads/2009/11/spork.jpg"/>
          <p:cNvPicPr/>
          <p:nvPr/>
        </p:nvPicPr>
        <p:blipFill>
          <a:blip r:embed="rId3"/>
          <a:stretch/>
        </p:blipFill>
        <p:spPr>
          <a:xfrm>
            <a:off x="533520" y="4848120"/>
            <a:ext cx="2057400" cy="383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tweakheadz.com/images/spoon-1.jpg"/>
          <p:cNvPicPr/>
          <p:nvPr/>
        </p:nvPicPr>
        <p:blipFill>
          <a:blip r:embed="rId4"/>
          <a:srcRect l="5253" t="0" r="0" b="0"/>
          <a:stretch/>
        </p:blipFill>
        <p:spPr>
          <a:xfrm>
            <a:off x="3657600" y="5181480"/>
            <a:ext cx="3048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webstaurantstore.com/regency-11-1-2-banquet-serving-fork/regency-11-1-2-banquet-serving-fork.jpg"/>
          <p:cNvPicPr/>
          <p:nvPr/>
        </p:nvPicPr>
        <p:blipFill>
          <a:blip r:embed="rId1"/>
          <a:srcRect l="26972" t="0" r="21353" b="0"/>
          <a:stretch/>
        </p:blipFill>
        <p:spPr>
          <a:xfrm>
            <a:off x="609480" y="152280"/>
            <a:ext cx="2210040" cy="427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partycentral.org/images/rentals/rental-item-silver-plated-sussex-pattern-butter-knife-234.jpg"/>
          <p:cNvPicPr/>
          <p:nvPr/>
        </p:nvPicPr>
        <p:blipFill>
          <a:blip r:embed="rId2"/>
          <a:srcRect l="2314" t="6402" r="6773" b="0"/>
          <a:stretch/>
        </p:blipFill>
        <p:spPr>
          <a:xfrm>
            <a:off x="3624120" y="76320"/>
            <a:ext cx="3005280" cy="44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appetitebooks.ca/images/cms/Image/Knife.jpg"/>
          <p:cNvPicPr/>
          <p:nvPr/>
        </p:nvPicPr>
        <p:blipFill>
          <a:blip r:embed="rId3"/>
          <a:stretch/>
        </p:blipFill>
        <p:spPr>
          <a:xfrm>
            <a:off x="304920" y="54864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files.turbosquid.com/Preview/Content_2009_07_13__19_31_08/Utensils_Set.jpgD3A89DF9-944E-427C-B45AB4394F1A6B6A.jpgLarge.jpg"/>
          <p:cNvPicPr/>
          <p:nvPr/>
        </p:nvPicPr>
        <p:blipFill>
          <a:blip r:embed="rId4"/>
          <a:stretch/>
        </p:blipFill>
        <p:spPr>
          <a:xfrm>
            <a:off x="3581280" y="5181480"/>
            <a:ext cx="3124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springsbargains.com/wp-content/uploads/2009/11/milk.jpg"/>
          <p:cNvPicPr/>
          <p:nvPr/>
        </p:nvPicPr>
        <p:blipFill>
          <a:blip r:embed="rId1"/>
          <a:srcRect l="10753" t="0" r="9254" b="0"/>
          <a:stretch/>
        </p:blipFill>
        <p:spPr>
          <a:xfrm>
            <a:off x="533520" y="171360"/>
            <a:ext cx="2361960" cy="424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engagingconflicts.com/wp-content/coffee-cup-01.jpg"/>
          <p:cNvPicPr/>
          <p:nvPr/>
        </p:nvPicPr>
        <p:blipFill>
          <a:blip r:embed="rId2"/>
          <a:srcRect l="14306" t="9341" r="13871" b="13617"/>
          <a:stretch/>
        </p:blipFill>
        <p:spPr>
          <a:xfrm>
            <a:off x="3581280" y="106668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www.thedailygreen.com/cm/thedailygreen/images/FI/orange-juice-potassium-lg.jpg"/>
          <p:cNvPicPr/>
          <p:nvPr/>
        </p:nvPicPr>
        <p:blipFill>
          <a:blip r:embed="rId3"/>
          <a:srcRect l="0" t="10435" r="0" b="0"/>
          <a:stretch/>
        </p:blipFill>
        <p:spPr>
          <a:xfrm>
            <a:off x="0" y="4876920"/>
            <a:ext cx="3429000" cy="392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http://nateliston.files.wordpress.com/2008/05/soda.jpg"/>
          <p:cNvPicPr/>
          <p:nvPr/>
        </p:nvPicPr>
        <p:blipFill>
          <a:blip r:embed="rId4"/>
          <a:stretch/>
        </p:blipFill>
        <p:spPr>
          <a:xfrm>
            <a:off x="3692520" y="4952880"/>
            <a:ext cx="2784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http://triathlons.thefuntimesguide.com/images/blogs/water-bottle-glass-by-nkzs.jpg"/>
          <p:cNvPicPr/>
          <p:nvPr/>
        </p:nvPicPr>
        <p:blipFill>
          <a:blip r:embed="rId1"/>
          <a:stretch/>
        </p:blipFill>
        <p:spPr>
          <a:xfrm>
            <a:off x="277920" y="1158840"/>
            <a:ext cx="2955960" cy="249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www.pateira.net/storage/bottled-water.jpg?__SQUARESPACE_CACHEVERSION=1245790604235"/>
          <p:cNvPicPr/>
          <p:nvPr/>
        </p:nvPicPr>
        <p:blipFill>
          <a:blip r:embed="rId2"/>
          <a:srcRect l="21067" t="0" r="17069" b="0"/>
          <a:stretch/>
        </p:blipFill>
        <p:spPr>
          <a:xfrm>
            <a:off x="4038480" y="244440"/>
            <a:ext cx="19814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3T22:04:01Z</dcterms:modified>
  <cp:revision>24</cp:revision>
  <dc:subject/>
  <dc:title>Slide 1</dc:title>
</cp:coreProperties>
</file>