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356C-278A-45D3-9C12-CAEDDF15B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83C1-8CCF-4CBF-9E9B-8F4490EF1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7757-BA15-4E40-AE4D-F6D3DC450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529B-EBC5-4A8C-A38E-2F112C6AE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0EF0-98D2-48C5-A3CB-17E106286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7744-1679-449F-A53E-E4C4E44A4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0DD9-0C82-4D8A-BE84-763E9C1B4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E52E-E6C2-41FC-A0BB-5A510425F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55CA-DDCC-4173-8110-7D787BF90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9DA1-4871-4065-B1DA-AE34A3985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C2C5-A5B6-4E25-9DA0-1AD9D434C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39DD-D4C7-464B-B339-62B2A47A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B0857-8BC4-40D0-9C7E-F40D6064D2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http://shanghaiist.com/attachments/claudinekharris/napkins.jpg"/>
          <p:cNvPicPr/>
          <p:nvPr/>
        </p:nvPicPr>
        <p:blipFill>
          <a:blip r:embed="rId1"/>
          <a:stretch/>
        </p:blipFill>
        <p:spPr>
          <a:xfrm>
            <a:off x="63360" y="781200"/>
            <a:ext cx="3238560" cy="3485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http://www.kodak.com/global/images/mul/corp/tpc/create/special_events/projects/photo_napkin_rings/photoNapkinRings_step4.jpg"/>
          <p:cNvPicPr/>
          <p:nvPr/>
        </p:nvPicPr>
        <p:blipFill>
          <a:blip r:embed="rId2"/>
          <a:stretch/>
        </p:blipFill>
        <p:spPr>
          <a:xfrm>
            <a:off x="3657600" y="257040"/>
            <a:ext cx="3038400" cy="4048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http://necessarycool.com/wp-content/uploads/2009/11/spork.jpg"/>
          <p:cNvPicPr/>
          <p:nvPr/>
        </p:nvPicPr>
        <p:blipFill>
          <a:blip r:embed="rId3"/>
          <a:stretch/>
        </p:blipFill>
        <p:spPr>
          <a:xfrm>
            <a:off x="533520" y="4848120"/>
            <a:ext cx="2057400" cy="3838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http://www.tweakheadz.com/images/spoon-1.jpg"/>
          <p:cNvPicPr/>
          <p:nvPr/>
        </p:nvPicPr>
        <p:blipFill>
          <a:blip r:embed="rId4"/>
          <a:srcRect l="5253" t="0" r="0" b="0"/>
          <a:stretch/>
        </p:blipFill>
        <p:spPr>
          <a:xfrm>
            <a:off x="3657600" y="5181480"/>
            <a:ext cx="30481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http://www.webstaurantstore.com/regency-11-1-2-banquet-serving-fork/regency-11-1-2-banquet-serving-fork.jpg"/>
          <p:cNvPicPr/>
          <p:nvPr/>
        </p:nvPicPr>
        <p:blipFill>
          <a:blip r:embed="rId1"/>
          <a:srcRect l="26972" t="0" r="21353" b="0"/>
          <a:stretch/>
        </p:blipFill>
        <p:spPr>
          <a:xfrm>
            <a:off x="609480" y="152280"/>
            <a:ext cx="2210040" cy="4275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http://www.partycentral.org/images/rentals/rental-item-silver-plated-sussex-pattern-butter-knife-234.jpg"/>
          <p:cNvPicPr/>
          <p:nvPr/>
        </p:nvPicPr>
        <p:blipFill>
          <a:blip r:embed="rId2"/>
          <a:srcRect l="2314" t="6402" r="6773" b="0"/>
          <a:stretch/>
        </p:blipFill>
        <p:spPr>
          <a:xfrm>
            <a:off x="3624120" y="76320"/>
            <a:ext cx="3005280" cy="4457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http://www.appetitebooks.ca/images/cms/Image/Knife.jpg"/>
          <p:cNvPicPr/>
          <p:nvPr/>
        </p:nvPicPr>
        <p:blipFill>
          <a:blip r:embed="rId3"/>
          <a:stretch/>
        </p:blipFill>
        <p:spPr>
          <a:xfrm>
            <a:off x="304920" y="548640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" descr="http://files.turbosquid.com/Preview/Content_2009_07_13__19_31_08/Utensils_Set.jpgD3A89DF9-944E-427C-B45AB4394F1A6B6A.jpgLarge.jpg"/>
          <p:cNvPicPr/>
          <p:nvPr/>
        </p:nvPicPr>
        <p:blipFill>
          <a:blip r:embed="rId4"/>
          <a:stretch/>
        </p:blipFill>
        <p:spPr>
          <a:xfrm>
            <a:off x="3581280" y="5181480"/>
            <a:ext cx="312444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http://springsbargains.com/wp-content/uploads/2009/11/milk.jpg"/>
          <p:cNvPicPr/>
          <p:nvPr/>
        </p:nvPicPr>
        <p:blipFill>
          <a:blip r:embed="rId1"/>
          <a:srcRect l="10753" t="0" r="9254" b="0"/>
          <a:stretch/>
        </p:blipFill>
        <p:spPr>
          <a:xfrm>
            <a:off x="533520" y="171360"/>
            <a:ext cx="2361960" cy="4248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http://engagingconflicts.com/wp-content/coffee-cup-01.jpg"/>
          <p:cNvPicPr/>
          <p:nvPr/>
        </p:nvPicPr>
        <p:blipFill>
          <a:blip r:embed="rId2"/>
          <a:srcRect l="14306" t="9341" r="13871" b="13617"/>
          <a:stretch/>
        </p:blipFill>
        <p:spPr>
          <a:xfrm>
            <a:off x="3581280" y="1066680"/>
            <a:ext cx="3124440" cy="2514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http://www.thedailygreen.com/cm/thedailygreen/images/FI/orange-juice-potassium-lg.jpg"/>
          <p:cNvPicPr/>
          <p:nvPr/>
        </p:nvPicPr>
        <p:blipFill>
          <a:blip r:embed="rId3"/>
          <a:srcRect l="0" t="10435" r="0" b="0"/>
          <a:stretch/>
        </p:blipFill>
        <p:spPr>
          <a:xfrm>
            <a:off x="0" y="4876920"/>
            <a:ext cx="3429000" cy="3924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http://nateliston.files.wordpress.com/2008/05/soda.jpg"/>
          <p:cNvPicPr/>
          <p:nvPr/>
        </p:nvPicPr>
        <p:blipFill>
          <a:blip r:embed="rId4"/>
          <a:stretch/>
        </p:blipFill>
        <p:spPr>
          <a:xfrm>
            <a:off x="3692520" y="4952880"/>
            <a:ext cx="278460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9" descr="http://triathlons.thefuntimesguide.com/images/blogs/water-bottle-glass-by-nkzs.jpg"/>
          <p:cNvPicPr/>
          <p:nvPr/>
        </p:nvPicPr>
        <p:blipFill>
          <a:blip r:embed="rId1"/>
          <a:stretch/>
        </p:blipFill>
        <p:spPr>
          <a:xfrm>
            <a:off x="277920" y="1158840"/>
            <a:ext cx="2955960" cy="2498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http://www.pateira.net/storage/bottled-water.jpg?__SQUARESPACE_CACHEVERSION=1245790604235"/>
          <p:cNvPicPr/>
          <p:nvPr/>
        </p:nvPicPr>
        <p:blipFill>
          <a:blip r:embed="rId2"/>
          <a:srcRect l="21067" t="0" r="17069" b="0"/>
          <a:stretch/>
        </p:blipFill>
        <p:spPr>
          <a:xfrm>
            <a:off x="4038480" y="244440"/>
            <a:ext cx="1981440" cy="40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20:14:54Z</dcterms:created>
  <dc:creator>Dina Winterton</dc:creator>
  <dc:description/>
  <dc:language>en-US</dc:language>
  <cp:lastModifiedBy>116706</cp:lastModifiedBy>
  <dcterms:modified xsi:type="dcterms:W3CDTF">2010-07-13T22:04:01Z</dcterms:modified>
  <cp:revision>24</cp:revision>
  <dc:subject/>
  <dc:title>Slide 1</dc:title>
</cp:coreProperties>
</file>