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913-9370-4149-A36F-70D44FBB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59E-8C55-47FD-AEBF-61F2510B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440-FB88-4D29-9D73-34686FA9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74D-C6B3-40A9-A204-1C1A3941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25B-9081-406D-A89B-EDB93DFF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8A1-7F83-4ED1-8E43-4D8EA22E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382-9F2C-4093-911F-896AB515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830-FE20-470C-B2EF-FCC076D7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C08-318F-4744-872E-838320A3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644-7FC4-428A-B9B1-602042C2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3FF-B444-4761-BFA3-556705AF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544-A4C2-4F20-9D9D-F243BDFA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DA0C-C407-456F-92CD-1E3796B7D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yourfoodstorage.com/files/503159/uploaded/AppleSlices.jpg"/>
          <p:cNvPicPr/>
          <p:nvPr/>
        </p:nvPicPr>
        <p:blipFill>
          <a:blip r:embed="rId4"/>
          <a:stretch/>
        </p:blipFill>
        <p:spPr>
          <a:xfrm>
            <a:off x="101520" y="5257800"/>
            <a:ext cx="3251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8:06:11Z</dcterms:modified>
  <cp:revision>13</cp:revision>
  <dc:subject/>
  <dc:title>Slide 1</dc:title>
</cp:coreProperties>
</file>