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EA39-8FF8-4D9E-8B4E-F263BFD0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ing, reading, riding, ru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E65-4522-4707-B4FC-97821DA4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C46-A535-4005-89B2-C5C2E23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37A-9DBB-4D0D-8314-B902B190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28F-3A6A-415C-9705-3EE5A3C2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6B4-483C-4A12-A7D4-6E386DB2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8C3-57EA-4D9C-8CBA-D70D294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AF5-A57D-4752-A843-C86E448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A9A-AC35-40AA-AF1D-4E4795D8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FE-1272-4D5F-B1E9-E1551F8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BB1-D361-488F-AAA8-A4CF83AE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B84-094D-4A61-A6AA-564A5BF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B98-C82C-479F-A58A-2DC9F1E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66E-6639-45A0-962C-6A03B36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612-E7D6-4CB0-9F46-5E519E9D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3733920" y="6858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28749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rcRect l="0" t="0" r="2256" b="0"/>
          <a:stretch/>
        </p:blipFill>
        <p:spPr>
          <a:xfrm>
            <a:off x="3551400" y="4876920"/>
            <a:ext cx="3306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4"/>
          <a:srcRect l="4933" t="0" r="4933" b="0"/>
          <a:stretch/>
        </p:blipFill>
        <p:spPr>
          <a:xfrm>
            <a:off x="76320" y="304920"/>
            <a:ext cx="31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352960" cy="366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2"/>
          <a:stretch/>
        </p:blipFill>
        <p:spPr>
          <a:xfrm>
            <a:off x="3753000" y="352440"/>
            <a:ext cx="28764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2877840" cy="275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"/>
          <p:cNvPicPr/>
          <p:nvPr/>
        </p:nvPicPr>
        <p:blipFill>
          <a:blip r:embed="rId4"/>
          <a:stretch/>
        </p:blipFill>
        <p:spPr>
          <a:xfrm>
            <a:off x="3733920" y="5119560"/>
            <a:ext cx="26622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2993760" cy="272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276084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3"/>
          <a:stretch/>
        </p:blipFill>
        <p:spPr>
          <a:xfrm>
            <a:off x="299880" y="5238720"/>
            <a:ext cx="290052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thebsreport.files.wordpress.com/2010/01/watching-tv.jpg"/>
          <p:cNvPicPr/>
          <p:nvPr/>
        </p:nvPicPr>
        <p:blipFill>
          <a:blip r:embed="rId4">
            <a:grayscl/>
          </a:blip>
          <a:stretch/>
        </p:blipFill>
        <p:spPr>
          <a:xfrm>
            <a:off x="3619440" y="48006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http://www.hvrsd.org/timberlane/home/student/KunalK/skateboarding.gif"/>
          <p:cNvPicPr/>
          <p:nvPr/>
        </p:nvPicPr>
        <p:blipFill>
          <a:blip r:embed="rId1"/>
          <a:stretch/>
        </p:blipFill>
        <p:spPr>
          <a:xfrm>
            <a:off x="222120" y="1066680"/>
            <a:ext cx="3059280" cy="311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://a08.ngu.edu/library/images/writing.jpg"/>
          <p:cNvPicPr/>
          <p:nvPr/>
        </p:nvPicPr>
        <p:blipFill>
          <a:blip r:embed="rId2"/>
          <a:stretch/>
        </p:blipFill>
        <p:spPr>
          <a:xfrm>
            <a:off x="3597120" y="625320"/>
            <a:ext cx="31845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1:19:17Z</dcterms:modified>
  <cp:revision>11</cp:revision>
  <dc:subject/>
  <dc:title>Slide 1</dc:title>
</cp:coreProperties>
</file>