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0CAE-7265-4BE8-BE43-1E6FB087C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ying, reading, riding, run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6AC4-63A6-4F97-913B-231F97DDD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9076-F6D8-4098-BE5F-89B4D9AB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5F5-B90F-4C4A-B112-F2822F78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B49-57FB-4FB9-A506-52507D1A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E4C-4560-47AD-B039-FB6337FC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FFD3-1AF1-43CD-8E7C-2C4A94F2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C86-BA13-40ED-ADD7-86C1037D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0E8-92A0-4515-8D37-80D8C087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FF97-75F2-4F46-80E8-3F5ECDC0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32A-3D7E-4DC3-A3B7-D09E99BE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42E-90AE-47E3-940C-5FB37202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86F-DA51-4B37-8441-6E67DE6A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5DB6-470B-4209-9E29-5D77E8E3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1C03-90F3-4D6C-A2BC-4EF1B9A97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3733920" y="685800"/>
            <a:ext cx="2838240" cy="332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2"/>
          <a:stretch/>
        </p:blipFill>
        <p:spPr>
          <a:xfrm>
            <a:off x="380880" y="5334120"/>
            <a:ext cx="287496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3"/>
          <a:srcRect l="0" t="0" r="2256" b="0"/>
          <a:stretch/>
        </p:blipFill>
        <p:spPr>
          <a:xfrm>
            <a:off x="3551400" y="4876920"/>
            <a:ext cx="3306600" cy="388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4"/>
          <a:srcRect l="4933" t="0" r="4933" b="0"/>
          <a:stretch/>
        </p:blipFill>
        <p:spPr>
          <a:xfrm>
            <a:off x="76320" y="304920"/>
            <a:ext cx="31766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3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2352960" cy="3666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"/>
          <p:cNvPicPr/>
          <p:nvPr/>
        </p:nvPicPr>
        <p:blipFill>
          <a:blip r:embed="rId2"/>
          <a:stretch/>
        </p:blipFill>
        <p:spPr>
          <a:xfrm>
            <a:off x="3753000" y="352440"/>
            <a:ext cx="2876400" cy="3990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5" descr=""/>
          <p:cNvPicPr/>
          <p:nvPr/>
        </p:nvPicPr>
        <p:blipFill>
          <a:blip r:embed="rId3"/>
          <a:stretch/>
        </p:blipFill>
        <p:spPr>
          <a:xfrm>
            <a:off x="304920" y="5410080"/>
            <a:ext cx="2877840" cy="275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"/>
          <p:cNvPicPr/>
          <p:nvPr/>
        </p:nvPicPr>
        <p:blipFill>
          <a:blip r:embed="rId4"/>
          <a:stretch/>
        </p:blipFill>
        <p:spPr>
          <a:xfrm>
            <a:off x="3733920" y="5119560"/>
            <a:ext cx="26622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250920" y="838080"/>
            <a:ext cx="2993760" cy="2724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2"/>
          <a:stretch/>
        </p:blipFill>
        <p:spPr>
          <a:xfrm>
            <a:off x="3809880" y="914400"/>
            <a:ext cx="276084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/>
          <p:cNvPicPr/>
          <p:nvPr/>
        </p:nvPicPr>
        <p:blipFill>
          <a:blip r:embed="rId3"/>
          <a:stretch/>
        </p:blipFill>
        <p:spPr>
          <a:xfrm>
            <a:off x="299880" y="5238720"/>
            <a:ext cx="2900520" cy="291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http://thebsreport.files.wordpress.com/2010/01/watching-tv.jpg"/>
          <p:cNvPicPr/>
          <p:nvPr/>
        </p:nvPicPr>
        <p:blipFill>
          <a:blip r:embed="rId4">
            <a:grayscl/>
          </a:blip>
          <a:stretch/>
        </p:blipFill>
        <p:spPr>
          <a:xfrm>
            <a:off x="3619440" y="480060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http://www.hvrsd.org/timberlane/home/student/KunalK/skateboarding.gif"/>
          <p:cNvPicPr/>
          <p:nvPr/>
        </p:nvPicPr>
        <p:blipFill>
          <a:blip r:embed="rId1"/>
          <a:stretch/>
        </p:blipFill>
        <p:spPr>
          <a:xfrm>
            <a:off x="222120" y="1066680"/>
            <a:ext cx="3059280" cy="3111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http://a08.ngu.edu/library/images/writing.jpg"/>
          <p:cNvPicPr/>
          <p:nvPr/>
        </p:nvPicPr>
        <p:blipFill>
          <a:blip r:embed="rId2"/>
          <a:stretch/>
        </p:blipFill>
        <p:spPr>
          <a:xfrm>
            <a:off x="3597120" y="625320"/>
            <a:ext cx="31845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5T21:19:17Z</dcterms:modified>
  <cp:revision>11</cp:revision>
  <dc:subject/>
  <dc:title>Slide 1</dc:title>
</cp:coreProperties>
</file>