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AE2-3E86-4C3E-B103-51D476D4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242-BC21-4996-83C8-D76000D4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0A8-0EA5-4AE1-BD61-E999A13C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7CF-EF7B-4145-939F-A1B38DD0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76A-6E92-4C3F-A1D2-6B12B20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2E9-2072-45D5-A7FA-9E1AF353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29C-011A-4E39-89F2-B267D4D6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E33-5090-4709-8CB6-36E3DBF6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5AF-0DE1-4335-92F1-B428B70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D96-2AC9-494C-91F5-9A3234B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A86-6758-45BB-9569-0E0DC0B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DD3-99E2-48C9-8F6B-64E5F8A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E937-9D32-48BF-ACBF-57918249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80880" y="5364000"/>
            <a:ext cx="2971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21:13:50Z</dcterms:modified>
  <cp:revision>14</cp:revision>
  <dc:subject/>
  <dc:title>Slide 1</dc:title>
</cp:coreProperties>
</file>