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4B48-3693-4B5E-974F-D24219ED4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ing, reading, riding, ru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7E03-5D73-4C3D-B252-089E7A67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3D5-7532-4249-BDD1-1C134E84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A38-B0A2-4F24-BA44-469A9404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962-E85D-405A-AA94-1F6C400C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650-6242-4B93-84D6-3AC8C1E2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CF4-7678-4C18-BC6B-E65B1642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4D6-0023-4C56-A9C6-8292C9F0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839-64A4-479D-B7B2-D82D6369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6AA-882B-4452-994F-A40FE8CA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AE3-5B01-43EC-86E9-07BF0F3F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B0E-4978-494F-AAA4-98BC0A1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3D8-EE54-491C-854B-C107AEC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086-0769-4B6C-8706-83A0022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B0D2-E0B0-40BC-8A47-CDC5EA80B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2838240" cy="33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28749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rcRect l="0" t="0" r="2256" b="0"/>
          <a:stretch/>
        </p:blipFill>
        <p:spPr>
          <a:xfrm>
            <a:off x="3551400" y="4876920"/>
            <a:ext cx="330660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4"/>
          <a:srcRect l="4933" t="0" r="4933" b="0"/>
          <a:stretch/>
        </p:blipFill>
        <p:spPr>
          <a:xfrm>
            <a:off x="76320" y="304920"/>
            <a:ext cx="3176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352960" cy="366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"/>
          <p:cNvPicPr/>
          <p:nvPr/>
        </p:nvPicPr>
        <p:blipFill>
          <a:blip r:embed="rId2"/>
          <a:stretch/>
        </p:blipFill>
        <p:spPr>
          <a:xfrm>
            <a:off x="3753000" y="352440"/>
            <a:ext cx="2876400" cy="39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2877840" cy="275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"/>
          <p:cNvPicPr/>
          <p:nvPr/>
        </p:nvPicPr>
        <p:blipFill>
          <a:blip r:embed="rId4"/>
          <a:stretch/>
        </p:blipFill>
        <p:spPr>
          <a:xfrm>
            <a:off x="3733920" y="5119560"/>
            <a:ext cx="26622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2993760" cy="272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276084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3"/>
          <a:stretch/>
        </p:blipFill>
        <p:spPr>
          <a:xfrm>
            <a:off x="299880" y="5238720"/>
            <a:ext cx="2900520" cy="29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http://thebsreport.files.wordpress.com/2010/01/watching-tv.jpg"/>
          <p:cNvPicPr/>
          <p:nvPr/>
        </p:nvPicPr>
        <p:blipFill>
          <a:blip r:embed="rId4">
            <a:grayscl/>
          </a:blip>
          <a:stretch/>
        </p:blipFill>
        <p:spPr>
          <a:xfrm>
            <a:off x="3619440" y="48006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http://www.hvrsd.org/timberlane/home/student/KunalK/skateboarding.gif"/>
          <p:cNvPicPr/>
          <p:nvPr/>
        </p:nvPicPr>
        <p:blipFill>
          <a:blip r:embed="rId1"/>
          <a:stretch/>
        </p:blipFill>
        <p:spPr>
          <a:xfrm>
            <a:off x="222120" y="1066680"/>
            <a:ext cx="3059280" cy="311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://a08.ngu.edu/library/images/writing.jpg"/>
          <p:cNvPicPr/>
          <p:nvPr/>
        </p:nvPicPr>
        <p:blipFill>
          <a:blip r:embed="rId2"/>
          <a:stretch/>
        </p:blipFill>
        <p:spPr>
          <a:xfrm>
            <a:off x="3597120" y="625320"/>
            <a:ext cx="31845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1:19:17Z</dcterms:modified>
  <cp:revision>11</cp:revision>
  <dc:subject/>
  <dc:title>Slide 1</dc:title>
</cp:coreProperties>
</file>