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F72-3F5A-4017-86C7-5D0233EF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171-44C2-4134-996D-909B3549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9C8-CAA8-4431-8215-AE577922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D76-85DE-4937-95B2-DC1934C6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CC8-7D57-48C3-A0D3-C0D0A6FC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E1E-3068-4462-BBF8-5B04EF2E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9CC-14D9-4BD7-AB7B-40E71DD0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03D-B878-43BF-A47D-01C66F6E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FBF-689D-4420-A7A0-74AAF587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8AE-F7EB-493B-B500-020EF48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996-EEDA-4E03-8D2D-D7893CCC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3993-3895-44CF-B98A-1C5A7ECC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0021-C5AD-447A-90E5-A1F5B19B5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80880" y="5364000"/>
            <a:ext cx="2971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21:13:50Z</dcterms:modified>
  <cp:revision>14</cp:revision>
  <dc:subject/>
  <dc:title>Slide 1</dc:title>
</cp:coreProperties>
</file>