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8AC-BE1F-45FB-AE62-7E3A02A0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AE1-A96E-4D74-825E-3D2976E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854-E8CC-4E60-8064-81E057F2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E18-6A68-4A32-905B-5A42E048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818-961A-4B7F-9409-6F414428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BD7-F960-43B7-9090-83E9395F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FEE-2531-4333-93F0-E1D5787F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1CB-A4B3-4E1E-A9EF-B4825A0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BBB-A68B-4E01-9CEF-4C52E426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130-32BC-4843-80BD-82498DD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97F-6754-4021-9BD6-C37960B1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736-9CEA-402B-A7F6-01E0953A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0F70-3649-47E9-87A1-AC49AE775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28069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7360" y="4648320"/>
            <a:ext cx="2965320" cy="441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78120" y="4724280"/>
            <a:ext cx="295128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4840" y="152280"/>
            <a:ext cx="2877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3187800" cy="3962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87820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2880" y="380880"/>
            <a:ext cx="307188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81280" y="228600"/>
            <a:ext cx="284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7:33:23Z</dcterms:modified>
  <cp:revision>6</cp:revision>
  <dc:subject/>
  <dc:title>Slide 1</dc:title>
</cp:coreProperties>
</file>