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44F-DA12-442A-BBD4-F5ED5F0A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BE1-62E1-463E-A1A3-73B956A4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09F-DCE8-4F83-B6DF-801C1C75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7BB-2097-4299-A66C-084A5037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384-2901-4CA6-AE06-F56A259F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D08-F3B5-41E5-B822-0B7043C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C91-2481-47CD-BCAC-F6D2F96E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E49-C84B-4830-B77B-3635C452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0C0-B097-448E-84F5-AA821647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AA0-A2D6-49CD-BDE3-9FC78A7C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F2F-9A6C-45E4-BD38-ED9FDAD1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FC9-38D5-4939-95CC-308C83F0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76FF-DFD0-4293-A72B-5B59EBB7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280692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7360" y="4648320"/>
            <a:ext cx="2965320" cy="441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78120" y="4724280"/>
            <a:ext cx="295128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4840" y="152280"/>
            <a:ext cx="2877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3187800" cy="3962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87820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2880" y="380880"/>
            <a:ext cx="3071880" cy="396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81280" y="228600"/>
            <a:ext cx="284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7:33:23Z</dcterms:modified>
  <cp:revision>6</cp:revision>
  <dc:subject/>
  <dc:title>Slide 1</dc:title>
</cp:coreProperties>
</file>