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74B5-76AA-4B89-82A1-4D06D0F3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3488-6108-4B8D-A9AA-3336BE72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883-99D3-4DF9-912C-253F612A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E9D-8810-44B2-ABFB-A3B1201B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7E1-12B3-4DB6-8DC2-DB212A54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BC61-B9BD-4D49-8975-DA523F34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B58A-0D0F-4975-92AD-D5650E1E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2F8B-8B5F-4316-BD77-CA7F140B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1230-4267-48F5-9374-7AD555E0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FB23-1339-447D-B9CE-FE128459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4D17-9B57-4A29-8BE6-3B71752F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AFD9-7273-40EB-B420-2FDFE147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A42D-8348-4D75-BAFE-133E6EA52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2806920" cy="4191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7360" y="4648320"/>
            <a:ext cx="2965320" cy="4419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678120" y="4724280"/>
            <a:ext cx="2951280" cy="441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74840" y="152280"/>
            <a:ext cx="2877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4648320"/>
            <a:ext cx="3187800" cy="3962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657600" y="4648320"/>
            <a:ext cx="2878200" cy="4343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72880" y="380880"/>
            <a:ext cx="3071880" cy="3962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581280" y="228600"/>
            <a:ext cx="2841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4-29T17:33:23Z</dcterms:modified>
  <cp:revision>6</cp:revision>
  <dc:subject/>
  <dc:title>Slide 1</dc:title>
</cp:coreProperties>
</file>