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BBF-FE33-42CC-BCF9-FF5CF0BF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0C0-74E6-42AA-BE3C-47D58F8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CB6-52C8-44A6-8994-DC05F4E6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34A-6168-4977-A99D-F2214CB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299-413B-44B0-9A7A-EFFBF29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B8-A2F2-4696-9B46-827B093C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21C-429B-40D0-A132-678DD21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81A-42AB-4574-90F8-54D40AA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952-EFBA-4F3C-B89E-18965B7E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C0D-AE05-4528-B194-D611BAA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2CD-D741-43E1-8007-E3484AD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CC4-FE6A-48C7-AEFE-1137242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328-8AEB-4B0D-BF6E-94737AC8F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280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7360" y="4648320"/>
            <a:ext cx="296532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78120" y="4724280"/>
            <a:ext cx="295128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4840" y="152280"/>
            <a:ext cx="2877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31878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87820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2880" y="380880"/>
            <a:ext cx="307188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81280" y="228600"/>
            <a:ext cx="284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7:33:23Z</dcterms:modified>
  <cp:revision>6</cp:revision>
  <dc:subject/>
  <dc:title>Slide 1</dc:title>
</cp:coreProperties>
</file>