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A60E-518B-4E75-AC4B-9A0317A57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gry, starving, t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3FCA-22E4-4E36-81E0-B4A7EDCF3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s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7166-F442-4F2E-9CB5-3D286B5D1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8C5F-49F1-4CA2-B185-609415A3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A4F-2078-4767-B90E-73CC822D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D73-FA4E-48B1-9620-AC0D9946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71C-D242-411F-A367-BC150CD4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9F3-D44A-4855-891E-CF27BC41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C106-6C71-4A84-AAEE-F396BB72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B49A-2B4C-49CF-9E2E-46A28698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1AB-82E6-4538-B808-FADB869B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716D-B41C-4741-B3C7-7351E30C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9C9-FD7A-4CC0-9283-61D3BA21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A4E5-7010-4AD6-B767-4E1EDD2B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48A1-244D-44C8-9009-86BEC0AA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9473-4D1A-4A95-85CD-4C586BE26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"/>
          <p:cNvPicPr/>
          <p:nvPr/>
        </p:nvPicPr>
        <p:blipFill>
          <a:blip r:embed="rId1"/>
          <a:stretch/>
        </p:blipFill>
        <p:spPr>
          <a:xfrm>
            <a:off x="262080" y="554040"/>
            <a:ext cx="2938320" cy="32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2"/>
          <a:stretch/>
        </p:blipFill>
        <p:spPr>
          <a:xfrm>
            <a:off x="3657600" y="76320"/>
            <a:ext cx="3048120" cy="4305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"/>
          <p:cNvPicPr/>
          <p:nvPr/>
        </p:nvPicPr>
        <p:blipFill>
          <a:blip r:embed="rId3"/>
          <a:stretch/>
        </p:blipFill>
        <p:spPr>
          <a:xfrm>
            <a:off x="228600" y="4730760"/>
            <a:ext cx="3052800" cy="403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"/>
          <p:cNvPicPr/>
          <p:nvPr/>
        </p:nvPicPr>
        <p:blipFill>
          <a:blip r:embed="rId4"/>
          <a:stretch/>
        </p:blipFill>
        <p:spPr>
          <a:xfrm>
            <a:off x="4089240" y="4876920"/>
            <a:ext cx="21592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857680" cy="3543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2"/>
          <a:stretch/>
        </p:blipFill>
        <p:spPr>
          <a:xfrm>
            <a:off x="3581280" y="181080"/>
            <a:ext cx="3095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9T19:40:38Z</dcterms:modified>
  <cp:revision>8</cp:revision>
  <dc:subject/>
  <dc:title>Slide 1</dc:title>
</cp:coreProperties>
</file>