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38E7-1694-4EB5-A09E-F7209098D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gry, starving, t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6130-9A4E-49DD-BDAD-72934F1EC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s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1EA8-2158-4CC4-B8DD-F2F3D0396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AD95-819F-4796-A614-08F29BE9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E736-A657-45E1-8E8F-D27D56F8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46E7-B855-4F5C-B504-8C6256CF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DE73-CD81-4F54-AD61-23F8A9F3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B3DB-F0C0-4800-B628-D377AB32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4CF4-8900-414B-9C91-2BA2FF40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6621-FDCE-4D8C-994A-6C782B4B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CC31-E75D-419E-8D1D-205C907D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0ACE-B8DE-471D-8EC5-2AD44E00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D7E7-BBBA-42F5-A449-198FB573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98A-92EB-454B-B66D-948F051A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9C4E-42B7-4436-A739-13177084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0535-0C27-488B-8293-4EE804C96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"/>
          <p:cNvPicPr/>
          <p:nvPr/>
        </p:nvPicPr>
        <p:blipFill>
          <a:blip r:embed="rId1"/>
          <a:stretch/>
        </p:blipFill>
        <p:spPr>
          <a:xfrm>
            <a:off x="262080" y="554040"/>
            <a:ext cx="2938320" cy="32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2"/>
          <a:stretch/>
        </p:blipFill>
        <p:spPr>
          <a:xfrm>
            <a:off x="3657600" y="76320"/>
            <a:ext cx="3048120" cy="4305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"/>
          <p:cNvPicPr/>
          <p:nvPr/>
        </p:nvPicPr>
        <p:blipFill>
          <a:blip r:embed="rId3"/>
          <a:stretch/>
        </p:blipFill>
        <p:spPr>
          <a:xfrm>
            <a:off x="228600" y="4730760"/>
            <a:ext cx="3052800" cy="403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"/>
          <p:cNvPicPr/>
          <p:nvPr/>
        </p:nvPicPr>
        <p:blipFill>
          <a:blip r:embed="rId4"/>
          <a:stretch/>
        </p:blipFill>
        <p:spPr>
          <a:xfrm>
            <a:off x="4089240" y="4876920"/>
            <a:ext cx="215928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2857680" cy="3543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2"/>
          <a:stretch/>
        </p:blipFill>
        <p:spPr>
          <a:xfrm>
            <a:off x="3581280" y="181080"/>
            <a:ext cx="30956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10-07-19T19:40:38Z</dcterms:modified>
  <cp:revision>8</cp:revision>
  <dc:subject/>
  <dc:title>Slide 1</dc:title>
</cp:coreProperties>
</file>