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B79B-DB2F-404C-8458-4D7B50CBB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gry, starving, t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5E46-A683-4D02-92EB-1B2764E2A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s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C232-E2F5-4BA3-B1D2-2FCBCDBFD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92E-078D-4E3F-96C1-F8F3E622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290-1326-4D34-B338-8AE11BF0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682-B194-4F3F-A6BE-9D0D7CE0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3C2-B67A-47D7-8B39-D8695066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FE5F-9950-4A04-9B8B-2EC15B11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209-294B-41F8-8104-9A41D4C6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C80-68D1-4655-82DE-7EDA8C7E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A64-D95D-44D4-99D4-E81A5CF1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DF4-1350-42E9-8872-F7657857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0F1-72B9-4670-ABD2-BD015F41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B06-A576-4CB3-9226-F7373853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D38-3211-4842-B3B5-08C7C171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2EAB-E6A4-4FE7-BF93-711243465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1"/>
          <a:stretch/>
        </p:blipFill>
        <p:spPr>
          <a:xfrm>
            <a:off x="262080" y="554040"/>
            <a:ext cx="2938320" cy="32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3657600" y="76320"/>
            <a:ext cx="3048120" cy="430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3"/>
          <a:stretch/>
        </p:blipFill>
        <p:spPr>
          <a:xfrm>
            <a:off x="228600" y="4730760"/>
            <a:ext cx="3052800" cy="403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"/>
          <p:cNvPicPr/>
          <p:nvPr/>
        </p:nvPicPr>
        <p:blipFill>
          <a:blip r:embed="rId4"/>
          <a:stretch/>
        </p:blipFill>
        <p:spPr>
          <a:xfrm>
            <a:off x="4089240" y="4876920"/>
            <a:ext cx="21592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857680" cy="354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2"/>
          <a:stretch/>
        </p:blipFill>
        <p:spPr>
          <a:xfrm>
            <a:off x="3581280" y="181080"/>
            <a:ext cx="3095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9T19:40:38Z</dcterms:modified>
  <cp:revision>8</cp:revision>
  <dc:subject/>
  <dc:title>Slide 1</dc:title>
</cp:coreProperties>
</file>