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322-A1B3-4A89-BCD2-BE7587FF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A47-86A7-4F8D-BBD8-26FD8E31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DFF-1D3F-44F7-80D4-CF88E127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43D-CDF4-4ADD-9C07-65C885D2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192-FF88-44FC-BE30-ED744421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746-CC30-418D-9DDE-2D3ADBBE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E46-CB07-4104-8E7C-20F8BA8C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AE1-617C-401D-BD4A-E776B429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B65-B09D-44A2-A5F1-003B0ED6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7A2-F419-49A3-9DBE-356B9A41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CEB-45E4-4E21-9BB9-AC3B08C9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B9E-7EAA-44C3-B11C-1A140A1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5B10-1EAB-4297-AA94-6F6609B63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879.thb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810240" cy="2917800"/>
          </a:xfrm>
          <a:prstGeom prst="rect">
            <a:avLst/>
          </a:prstGeom>
          <a:ln w="0">
            <a:noFill/>
          </a:ln>
        </p:spPr>
      </p:pic>
      <p:pic>
        <p:nvPicPr>
          <p:cNvPr id="44" name="21559725.thb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91120" cy="2873160"/>
          </a:xfrm>
          <a:prstGeom prst="rect">
            <a:avLst/>
          </a:prstGeom>
          <a:ln w="0">
            <a:noFill/>
          </a:ln>
        </p:spPr>
      </p:pic>
      <p:pic>
        <p:nvPicPr>
          <p:cNvPr id="45" name="21559508.thb" descr=""/>
          <p:cNvPicPr/>
          <p:nvPr/>
        </p:nvPicPr>
        <p:blipFill>
          <a:blip r:embed="rId3"/>
          <a:stretch/>
        </p:blipFill>
        <p:spPr>
          <a:xfrm>
            <a:off x="757080" y="3809880"/>
            <a:ext cx="2595600" cy="2895840"/>
          </a:xfrm>
          <a:prstGeom prst="rect">
            <a:avLst/>
          </a:prstGeom>
          <a:ln w="0">
            <a:noFill/>
          </a:ln>
        </p:spPr>
      </p:pic>
      <p:pic>
        <p:nvPicPr>
          <p:cNvPr id="46" name="21559871.thb" descr=""/>
          <p:cNvPicPr/>
          <p:nvPr/>
        </p:nvPicPr>
        <p:blipFill>
          <a:blip r:embed="rId4"/>
          <a:stretch/>
        </p:blipFill>
        <p:spPr>
          <a:xfrm>
            <a:off x="5029200" y="228600"/>
            <a:ext cx="36576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152280"/>
            <a:ext cx="2536920" cy="312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657600" cy="314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8120" y="3581280"/>
            <a:ext cx="324000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270400" y="152280"/>
            <a:ext cx="311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200400" cy="29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52280"/>
            <a:ext cx="3276720" cy="30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117960" cy="32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00600" y="3979800"/>
            <a:ext cx="39625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00" y="3581280"/>
            <a:ext cx="318312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261144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81560" y="3619440"/>
            <a:ext cx="2847960" cy="308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43560" y="76320"/>
            <a:ext cx="2571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038480" cy="301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38680" y="198360"/>
            <a:ext cx="2705400" cy="307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9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76920" y="3759120"/>
            <a:ext cx="3657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26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410080" y="3581280"/>
          <a:ext cx="3353040" cy="30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581280"/>
                    <a:ext cx="33530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62120" y="228600"/>
            <a:ext cx="2911320" cy="29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600200" y="3962520"/>
            <a:ext cx="2819520" cy="242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0760" y="3962520"/>
            <a:ext cx="13971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3-23T22:22:58Z</dcterms:modified>
  <cp:revision>10</cp:revision>
  <dc:subject/>
  <dc:title>Slide 1</dc:title>
</cp:coreProperties>
</file>