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18F-4137-4FBA-912E-902C9D2F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3A0-F954-4763-B0A5-0B1F1EDC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E91-0448-4140-A817-356B9C2E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165-15B8-439D-AD28-0857ECBA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026-0CE6-4F2D-B839-EC90DAD0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DE5-7BF8-4FA0-B97E-AAB0567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2DA-9BFD-44EF-85AB-EAE80082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BC2-15C0-477E-904C-C62708E6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227-C625-4A27-A315-9F4348F3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F36-45F8-4388-BD75-8CF575B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438-2BA6-4CCA-968B-E4FC71C8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F9F-495B-4978-AC4C-628DB47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2B17-6108-4906-9218-C8E31ADCC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879.thb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810240" cy="2917800"/>
          </a:xfrm>
          <a:prstGeom prst="rect">
            <a:avLst/>
          </a:prstGeom>
          <a:ln w="0">
            <a:noFill/>
          </a:ln>
        </p:spPr>
      </p:pic>
      <p:pic>
        <p:nvPicPr>
          <p:cNvPr id="44" name="21559725.thb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191120" cy="2873160"/>
          </a:xfrm>
          <a:prstGeom prst="rect">
            <a:avLst/>
          </a:prstGeom>
          <a:ln w="0">
            <a:noFill/>
          </a:ln>
        </p:spPr>
      </p:pic>
      <p:pic>
        <p:nvPicPr>
          <p:cNvPr id="45" name="21559508.thb" descr=""/>
          <p:cNvPicPr/>
          <p:nvPr/>
        </p:nvPicPr>
        <p:blipFill>
          <a:blip r:embed="rId3"/>
          <a:stretch/>
        </p:blipFill>
        <p:spPr>
          <a:xfrm>
            <a:off x="757080" y="3809880"/>
            <a:ext cx="2595600" cy="2895840"/>
          </a:xfrm>
          <a:prstGeom prst="rect">
            <a:avLst/>
          </a:prstGeom>
          <a:ln w="0">
            <a:noFill/>
          </a:ln>
        </p:spPr>
      </p:pic>
      <p:pic>
        <p:nvPicPr>
          <p:cNvPr id="46" name="21559871.thb" descr=""/>
          <p:cNvPicPr/>
          <p:nvPr/>
        </p:nvPicPr>
        <p:blipFill>
          <a:blip r:embed="rId4"/>
          <a:stretch/>
        </p:blipFill>
        <p:spPr>
          <a:xfrm>
            <a:off x="5029200" y="228600"/>
            <a:ext cx="36576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152280"/>
            <a:ext cx="2536920" cy="312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6576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8120" y="3581280"/>
            <a:ext cx="324000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270400" y="152280"/>
            <a:ext cx="311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200400" cy="29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117960" cy="32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00600" y="3979800"/>
            <a:ext cx="39625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00" y="3581280"/>
            <a:ext cx="318312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261144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81560" y="3619440"/>
            <a:ext cx="2847960" cy="308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43560" y="76320"/>
            <a:ext cx="2571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038480" cy="301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638680" y="198360"/>
            <a:ext cx="2705400" cy="307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9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759120"/>
            <a:ext cx="3657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26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10080" y="3581280"/>
          <a:ext cx="335304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581280"/>
                    <a:ext cx="33530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2120" y="228600"/>
            <a:ext cx="291132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819520" cy="242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0760" y="3962520"/>
            <a:ext cx="13971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9-03-23T22:22:58Z</dcterms:modified>
  <cp:revision>10</cp:revision>
  <dc:subject/>
  <dc:title>Slide 1</dc:title>
</cp:coreProperties>
</file>