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EA96-369B-4BD6-88C7-B919354A8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BCA7-F9DB-497C-B361-AC060567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8BFE-5219-42DA-BAA4-15E85B5CD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53E9-5562-42D4-8D12-431ED5C34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8E33-42E7-484A-B531-4F44E438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46E0-AFB6-4536-89ED-F595CA14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E9DB-3188-4FE8-B261-00814D6D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54E7-AF22-43E3-BEC4-8B7F1C0A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0F84-29A1-4B06-97DB-F5E9AB8F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B39C-B801-4632-B1B3-179EA3E2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947A-0C6A-4E0D-B752-966379BB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F64A-3EC5-424E-B9F1-A164252F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DAB4-3A59-4659-9F19-62670D76B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21559879.thb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3810240" cy="2917800"/>
          </a:xfrm>
          <a:prstGeom prst="rect">
            <a:avLst/>
          </a:prstGeom>
          <a:ln w="0">
            <a:noFill/>
          </a:ln>
        </p:spPr>
      </p:pic>
      <p:pic>
        <p:nvPicPr>
          <p:cNvPr id="44" name="21559725.thb" descr=""/>
          <p:cNvPicPr/>
          <p:nvPr/>
        </p:nvPicPr>
        <p:blipFill>
          <a:blip r:embed="rId2"/>
          <a:stretch/>
        </p:blipFill>
        <p:spPr>
          <a:xfrm>
            <a:off x="4800600" y="3733920"/>
            <a:ext cx="4191120" cy="2873160"/>
          </a:xfrm>
          <a:prstGeom prst="rect">
            <a:avLst/>
          </a:prstGeom>
          <a:ln w="0">
            <a:noFill/>
          </a:ln>
        </p:spPr>
      </p:pic>
      <p:pic>
        <p:nvPicPr>
          <p:cNvPr id="45" name="21559508.thb" descr=""/>
          <p:cNvPicPr/>
          <p:nvPr/>
        </p:nvPicPr>
        <p:blipFill>
          <a:blip r:embed="rId3"/>
          <a:stretch/>
        </p:blipFill>
        <p:spPr>
          <a:xfrm>
            <a:off x="757080" y="3809880"/>
            <a:ext cx="2595600" cy="2895840"/>
          </a:xfrm>
          <a:prstGeom prst="rect">
            <a:avLst/>
          </a:prstGeom>
          <a:ln w="0">
            <a:noFill/>
          </a:ln>
        </p:spPr>
      </p:pic>
      <p:pic>
        <p:nvPicPr>
          <p:cNvPr id="46" name="21559871.thb" descr=""/>
          <p:cNvPicPr/>
          <p:nvPr/>
        </p:nvPicPr>
        <p:blipFill>
          <a:blip r:embed="rId4"/>
          <a:stretch/>
        </p:blipFill>
        <p:spPr>
          <a:xfrm>
            <a:off x="5029200" y="228600"/>
            <a:ext cx="365760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92080" y="152280"/>
            <a:ext cx="2536920" cy="3124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880" y="3581280"/>
            <a:ext cx="3657600" cy="3143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118120" y="3581280"/>
            <a:ext cx="3240000" cy="3276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270400" y="152280"/>
            <a:ext cx="3111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3200400" cy="2987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81480" y="152280"/>
            <a:ext cx="3276720" cy="3060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57200" y="3505320"/>
            <a:ext cx="3117960" cy="3276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800600" y="3979800"/>
            <a:ext cx="396252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50800" y="3581280"/>
            <a:ext cx="3183120" cy="3200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38080" y="228600"/>
            <a:ext cx="2611440" cy="2971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281560" y="3619440"/>
            <a:ext cx="2847960" cy="3086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443560" y="76320"/>
            <a:ext cx="25718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038480" cy="3016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638680" y="198360"/>
            <a:ext cx="2705400" cy="3078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57200" y="3657600"/>
            <a:ext cx="3352680" cy="2994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876920" y="3759120"/>
            <a:ext cx="36576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952880" y="457200"/>
            <a:ext cx="3962520" cy="263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5410080" y="3581280"/>
          <a:ext cx="3353040" cy="306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3581280"/>
                    <a:ext cx="335304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762120" y="228600"/>
            <a:ext cx="2911320" cy="2971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600200" y="3962520"/>
            <a:ext cx="2819520" cy="2422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50760" y="3962520"/>
            <a:ext cx="139716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Dina Winterton</cp:lastModifiedBy>
  <dcterms:modified xsi:type="dcterms:W3CDTF">2009-03-23T22:22:58Z</dcterms:modified>
  <cp:revision>10</cp:revision>
  <dc:subject/>
  <dc:title>Slide 1</dc:title>
</cp:coreProperties>
</file>