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FAE-7A35-4102-A35D-52624501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7AF-C7F1-40DE-9CED-5B1EE9C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135-2BFF-4E85-AE4C-A5CF7492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179-7FD7-42F1-A52D-74DF9BAC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74E-5566-4703-AE0B-19E066E9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F13-A62C-4A88-9B81-800F310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BD8-9CEA-4589-84B7-3FF2AA2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8AC-2AFB-40A1-A4F6-109845EB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0FF-ACCC-4031-8A9F-C692CF96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244-F29D-47FE-861C-880E844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AFC-8A04-4796-B22F-1F3E356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4DA-FD61-4D75-A8A3-ACCCBA1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2033-1F13-4736-9574-F4E069541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1559879.thb" descr=""/>
          <p:cNvPicPr/>
          <p:nvPr/>
        </p:nvPicPr>
        <p:blipFill>
          <a:blip r:embed="rId1"/>
          <a:stretch/>
        </p:blipFill>
        <p:spPr>
          <a:xfrm>
            <a:off x="0" y="76320"/>
            <a:ext cx="2514600" cy="1925640"/>
          </a:xfrm>
          <a:prstGeom prst="rect">
            <a:avLst/>
          </a:prstGeom>
          <a:ln w="0">
            <a:noFill/>
          </a:ln>
        </p:spPr>
      </p:pic>
      <p:pic>
        <p:nvPicPr>
          <p:cNvPr id="46" name="21559725.thb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21559508.thb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77624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21559871.thb" descr=""/>
          <p:cNvPicPr/>
          <p:nvPr/>
        </p:nvPicPr>
        <p:blipFill>
          <a:blip r:embed="rId4"/>
          <a:stretch/>
        </p:blipFill>
        <p:spPr>
          <a:xfrm>
            <a:off x="3200400" y="104760"/>
            <a:ext cx="255276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664080" y="2514600"/>
            <a:ext cx="167004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4762440"/>
            <a:ext cx="2438280" cy="209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505320" y="4724280"/>
            <a:ext cx="21096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05720" y="4876920"/>
            <a:ext cx="2047680" cy="191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629400" y="246204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362320" cy="220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87880" y="0"/>
            <a:ext cx="2138040" cy="2247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04624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77120" y="249120"/>
            <a:ext cx="2666880" cy="173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7200" y="2514600"/>
            <a:ext cx="1774800" cy="20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186372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33920" y="2438280"/>
            <a:ext cx="1674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429000" y="503712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781680" y="4762440"/>
            <a:ext cx="1841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16120"/>
            <a:ext cx="2666880" cy="17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6934320" y="2541600"/>
          <a:ext cx="2057400" cy="18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2541600"/>
                    <a:ext cx="2057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903320" cy="19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2616120"/>
            <a:ext cx="100008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114800" y="2666880"/>
            <a:ext cx="1981080" cy="1702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3352680" y="228600"/>
            <a:ext cx="2438640" cy="1913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380880" y="0"/>
            <a:ext cx="20462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21:31:36Z</dcterms:modified>
  <cp:revision>17</cp:revision>
  <dc:subject/>
  <dc:title>Slide 1</dc:title>
</cp:coreProperties>
</file>