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6918-95EA-48E9-B6EA-050A6359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3887-A04A-4A04-834D-3D010B21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8AC-92F9-4294-84D4-D0DFF76A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3D8-68C6-4EBF-931B-F3872397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5AF-70DF-437B-819C-53E89062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B15-F403-43D7-9D3E-80DFB50D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E65-6971-4C59-AC2A-D5A5E171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B96-ADCF-426B-9217-7F67210A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411-1DBB-4D9D-9229-E64CB5F5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148-7E6D-4C7F-8D4C-A30ED53D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0832-E2F1-4E7A-88D8-FABE5047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91CA-B307-4462-9BCE-8E94CED3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294B-8A69-493F-9330-4D4A09947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4852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21559879.thb" descr=""/>
          <p:cNvPicPr/>
          <p:nvPr/>
        </p:nvPicPr>
        <p:blipFill>
          <a:blip r:embed="rId1"/>
          <a:stretch/>
        </p:blipFill>
        <p:spPr>
          <a:xfrm>
            <a:off x="0" y="76320"/>
            <a:ext cx="2514600" cy="1925640"/>
          </a:xfrm>
          <a:prstGeom prst="rect">
            <a:avLst/>
          </a:prstGeom>
          <a:ln w="0">
            <a:noFill/>
          </a:ln>
        </p:spPr>
      </p:pic>
      <p:pic>
        <p:nvPicPr>
          <p:cNvPr id="46" name="21559725.thb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21559508.thb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1776240" cy="1981080"/>
          </a:xfrm>
          <a:prstGeom prst="rect">
            <a:avLst/>
          </a:prstGeom>
          <a:ln w="0">
            <a:noFill/>
          </a:ln>
        </p:spPr>
      </p:pic>
      <p:pic>
        <p:nvPicPr>
          <p:cNvPr id="48" name="21559871.thb" descr=""/>
          <p:cNvPicPr/>
          <p:nvPr/>
        </p:nvPicPr>
        <p:blipFill>
          <a:blip r:embed="rId4"/>
          <a:stretch/>
        </p:blipFill>
        <p:spPr>
          <a:xfrm>
            <a:off x="3200400" y="104760"/>
            <a:ext cx="2552760" cy="2085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664080" y="2514600"/>
            <a:ext cx="167004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28600" y="4762440"/>
            <a:ext cx="2438280" cy="2095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505320" y="4724280"/>
            <a:ext cx="210960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705720" y="4876920"/>
            <a:ext cx="2047680" cy="191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6629400" y="2462040"/>
            <a:ext cx="2362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362320" cy="2206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87880" y="0"/>
            <a:ext cx="2138040" cy="2247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880" y="4800600"/>
            <a:ext cx="204624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77120" y="249120"/>
            <a:ext cx="2666880" cy="1731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57200" y="2514600"/>
            <a:ext cx="1774800" cy="2019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6705720" y="2514600"/>
            <a:ext cx="1863720" cy="2019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733920" y="2438280"/>
            <a:ext cx="167472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3429000" y="5037120"/>
            <a:ext cx="2438280" cy="182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6781680" y="4762440"/>
            <a:ext cx="18417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616120"/>
            <a:ext cx="2666880" cy="17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6934320" y="2541600"/>
          <a:ext cx="2057400" cy="187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2541600"/>
                    <a:ext cx="205740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934320" y="228600"/>
            <a:ext cx="1903320" cy="1943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3048120" y="2616120"/>
            <a:ext cx="1000080" cy="172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114800" y="2666880"/>
            <a:ext cx="1981080" cy="1702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3352680" y="228600"/>
            <a:ext cx="2438640" cy="1913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380880" y="0"/>
            <a:ext cx="204624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9-03-25T21:31:36Z</dcterms:modified>
  <cp:revision>17</cp:revision>
  <dc:subject/>
  <dc:title>Slide 1</dc:title>
</cp:coreProperties>
</file>