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2A8F-49B0-4879-80D1-2BE7BC177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7547-6C0D-4BAD-879D-902AEAC29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1C07-9EE0-4AE9-849A-C81805DE0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97A8-9E5C-4DCA-A60D-FAD285207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AA98-9E3B-40D6-B724-44234E453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6D44-0FF5-41AA-8D64-43EC2E4BE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C6F7-E604-4D11-AD57-980831FBA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9CE1-5D77-4098-B17D-CBF568147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5A96-CFFD-43C4-9CDB-83F79E15A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D635-3442-46AD-9CBA-9CD3E6C9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136A-8915-4EAE-ABEC-52326CE45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BC7F-140C-4826-8CD8-F86F5752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6DE71-8803-4B1A-8804-986F13A7E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48520" y="57240"/>
            <a:ext cx="0" cy="6800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4324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62924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21559879.thb" descr=""/>
          <p:cNvPicPr/>
          <p:nvPr/>
        </p:nvPicPr>
        <p:blipFill>
          <a:blip r:embed="rId1"/>
          <a:stretch/>
        </p:blipFill>
        <p:spPr>
          <a:xfrm>
            <a:off x="0" y="76320"/>
            <a:ext cx="2514600" cy="1925640"/>
          </a:xfrm>
          <a:prstGeom prst="rect">
            <a:avLst/>
          </a:prstGeom>
          <a:ln w="0">
            <a:noFill/>
          </a:ln>
        </p:spPr>
      </p:pic>
      <p:pic>
        <p:nvPicPr>
          <p:cNvPr id="46" name="21559725.thb" descr=""/>
          <p:cNvPicPr/>
          <p:nvPr/>
        </p:nvPicPr>
        <p:blipFill>
          <a:blip r:embed="rId2"/>
          <a:stretch/>
        </p:blipFill>
        <p:spPr>
          <a:xfrm>
            <a:off x="6477120" y="152280"/>
            <a:ext cx="2666880" cy="1828800"/>
          </a:xfrm>
          <a:prstGeom prst="rect">
            <a:avLst/>
          </a:prstGeom>
          <a:ln w="0">
            <a:noFill/>
          </a:ln>
        </p:spPr>
      </p:pic>
      <p:pic>
        <p:nvPicPr>
          <p:cNvPr id="47" name="21559508.thb" descr=""/>
          <p:cNvPicPr/>
          <p:nvPr/>
        </p:nvPicPr>
        <p:blipFill>
          <a:blip r:embed="rId3"/>
          <a:stretch/>
        </p:blipFill>
        <p:spPr>
          <a:xfrm>
            <a:off x="304920" y="2514600"/>
            <a:ext cx="1776240" cy="1981080"/>
          </a:xfrm>
          <a:prstGeom prst="rect">
            <a:avLst/>
          </a:prstGeom>
          <a:ln w="0">
            <a:noFill/>
          </a:ln>
        </p:spPr>
      </p:pic>
      <p:pic>
        <p:nvPicPr>
          <p:cNvPr id="48" name="21559871.thb" descr=""/>
          <p:cNvPicPr/>
          <p:nvPr/>
        </p:nvPicPr>
        <p:blipFill>
          <a:blip r:embed="rId4"/>
          <a:stretch/>
        </p:blipFill>
        <p:spPr>
          <a:xfrm>
            <a:off x="3200400" y="104760"/>
            <a:ext cx="2552760" cy="2085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3664080" y="2514600"/>
            <a:ext cx="1670040" cy="2057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228600" y="4762440"/>
            <a:ext cx="2438280" cy="2095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3505320" y="4724280"/>
            <a:ext cx="2109600" cy="2133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6705720" y="4876920"/>
            <a:ext cx="2047680" cy="1911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6629400" y="2462040"/>
            <a:ext cx="236232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946240" y="0"/>
            <a:ext cx="0" cy="6858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299280" y="57240"/>
            <a:ext cx="0" cy="6800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34324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62924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2362320" cy="2206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87880" y="0"/>
            <a:ext cx="2138040" cy="2247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380880" y="4800600"/>
            <a:ext cx="2046240" cy="20574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6477120" y="249120"/>
            <a:ext cx="2666880" cy="1731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457200" y="2514600"/>
            <a:ext cx="1774800" cy="2019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6705720" y="2514600"/>
            <a:ext cx="1863720" cy="20192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3733920" y="2438280"/>
            <a:ext cx="1674720" cy="2133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3429000" y="5037120"/>
            <a:ext cx="2438280" cy="1820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9"/>
          <a:stretch/>
        </p:blipFill>
        <p:spPr>
          <a:xfrm>
            <a:off x="6781680" y="4762440"/>
            <a:ext cx="18417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946240" y="0"/>
            <a:ext cx="0" cy="6858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57240"/>
            <a:ext cx="0" cy="6800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34324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462924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2616120"/>
            <a:ext cx="2666880" cy="1776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" name=""/>
          <p:cNvGraphicFramePr/>
          <p:nvPr/>
        </p:nvGraphicFramePr>
        <p:xfrm>
          <a:off x="6934320" y="2541600"/>
          <a:ext cx="2057400" cy="187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34320" y="2541600"/>
                    <a:ext cx="2057400" cy="18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6934320" y="228600"/>
            <a:ext cx="1903320" cy="19432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3048120" y="2616120"/>
            <a:ext cx="1000080" cy="1727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4114800" y="2666880"/>
            <a:ext cx="1981080" cy="17020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7"/>
          <a:stretch/>
        </p:blipFill>
        <p:spPr>
          <a:xfrm>
            <a:off x="3352680" y="228600"/>
            <a:ext cx="2438640" cy="19130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8"/>
          <a:stretch/>
        </p:blipFill>
        <p:spPr>
          <a:xfrm>
            <a:off x="380880" y="0"/>
            <a:ext cx="204624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6:19:01Z</dcterms:created>
  <dc:creator>Dina Winterton</dc:creator>
  <dc:description/>
  <dc:language>en-US</dc:language>
  <cp:lastModifiedBy>Dina Winterton</cp:lastModifiedBy>
  <dcterms:modified xsi:type="dcterms:W3CDTF">2009-03-25T21:31:36Z</dcterms:modified>
  <cp:revision>17</cp:revision>
  <dc:subject/>
  <dc:title>Slide 1</dc:title>
</cp:coreProperties>
</file>