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33C-6D7D-42C1-A2B1-AE905E3A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BFD-DDEC-468E-BCB6-57C90105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142-A2FF-4F34-9B3E-1501B133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B07-8950-4746-92C4-0C55C0EE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F55-6F14-4A45-A06F-5B20BFE8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3E6-943B-4083-8847-22D416DB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E4C-3297-43A8-9D48-26A7DC91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89B-117D-478A-9157-0A02D3AE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151-DECB-4EBA-AD29-01B6B99E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2FA-7E9B-4FE6-952F-D7545B60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193-2BD1-455E-840A-CA73D81C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C85-66CF-4FB9-9997-8037C958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F6C1-83FB-4F0E-97C0-CB33C3776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21559879.thb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810240" cy="2917800"/>
          </a:xfrm>
          <a:prstGeom prst="rect">
            <a:avLst/>
          </a:prstGeom>
          <a:ln w="0">
            <a:noFill/>
          </a:ln>
        </p:spPr>
      </p:pic>
      <p:pic>
        <p:nvPicPr>
          <p:cNvPr id="44" name="21559725.thb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4191120" cy="2873160"/>
          </a:xfrm>
          <a:prstGeom prst="rect">
            <a:avLst/>
          </a:prstGeom>
          <a:ln w="0">
            <a:noFill/>
          </a:ln>
        </p:spPr>
      </p:pic>
      <p:pic>
        <p:nvPicPr>
          <p:cNvPr id="45" name="21559508.thb" descr=""/>
          <p:cNvPicPr/>
          <p:nvPr/>
        </p:nvPicPr>
        <p:blipFill>
          <a:blip r:embed="rId3"/>
          <a:stretch/>
        </p:blipFill>
        <p:spPr>
          <a:xfrm>
            <a:off x="757080" y="3809880"/>
            <a:ext cx="2595600" cy="2895840"/>
          </a:xfrm>
          <a:prstGeom prst="rect">
            <a:avLst/>
          </a:prstGeom>
          <a:ln w="0">
            <a:noFill/>
          </a:ln>
        </p:spPr>
      </p:pic>
      <p:pic>
        <p:nvPicPr>
          <p:cNvPr id="46" name="21559871.thb" descr=""/>
          <p:cNvPicPr/>
          <p:nvPr/>
        </p:nvPicPr>
        <p:blipFill>
          <a:blip r:embed="rId4"/>
          <a:stretch/>
        </p:blipFill>
        <p:spPr>
          <a:xfrm>
            <a:off x="5029200" y="228600"/>
            <a:ext cx="36576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2080" y="152280"/>
            <a:ext cx="2536920" cy="312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657600" cy="314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18120" y="3581280"/>
            <a:ext cx="324000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270400" y="152280"/>
            <a:ext cx="3111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200400" cy="298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152280"/>
            <a:ext cx="3276720" cy="306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3117960" cy="32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800600" y="3979800"/>
            <a:ext cx="39625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0800" y="3581280"/>
            <a:ext cx="3183120" cy="3200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261144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81560" y="3619440"/>
            <a:ext cx="2847960" cy="3086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443560" y="76320"/>
            <a:ext cx="2571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038480" cy="3016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638680" y="198360"/>
            <a:ext cx="2705400" cy="3078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352680" cy="299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876920" y="3759120"/>
            <a:ext cx="36576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62520" cy="263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5410080" y="3581280"/>
          <a:ext cx="3353040" cy="30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3581280"/>
                    <a:ext cx="33530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62120" y="228600"/>
            <a:ext cx="2911320" cy="297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600200" y="3962520"/>
            <a:ext cx="2819520" cy="2422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50760" y="3962520"/>
            <a:ext cx="139716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9-03-23T22:22:58Z</dcterms:modified>
  <cp:revision>10</cp:revision>
  <dc:subject/>
  <dc:title>Slide 1</dc:title>
</cp:coreProperties>
</file>