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CD2-4C95-46A3-A251-D1023E4C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D2B-F7A1-4F39-B5F7-1217A634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120-4823-43CF-BBE5-360260BA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0DE-B326-486E-B1A2-53BBE6BC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C98-193A-4D60-BF34-A609B18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ACA-0178-45A3-9DD0-9CA85D57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2F0-1F4E-49D0-A1A9-DD49AB9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09F-912D-43AC-99BC-B2C0DD3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EB1-E29D-490B-B976-DB80BC5C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501-2352-46E7-9101-5B7A0F5B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AF2-F989-4376-B6BA-D168AB71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B43-95C8-4027-80D6-8BE0608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5CD7-C56D-4F69-93F9-515C3787C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879.thb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10240" cy="2917800"/>
          </a:xfrm>
          <a:prstGeom prst="rect">
            <a:avLst/>
          </a:prstGeom>
          <a:ln w="0">
            <a:noFill/>
          </a:ln>
        </p:spPr>
      </p:pic>
      <p:pic>
        <p:nvPicPr>
          <p:cNvPr id="44" name="21559725.thb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91120" cy="2873160"/>
          </a:xfrm>
          <a:prstGeom prst="rect">
            <a:avLst/>
          </a:prstGeom>
          <a:ln w="0">
            <a:noFill/>
          </a:ln>
        </p:spPr>
      </p:pic>
      <p:pic>
        <p:nvPicPr>
          <p:cNvPr id="45" name="21559508.thb" descr=""/>
          <p:cNvPicPr/>
          <p:nvPr/>
        </p:nvPicPr>
        <p:blipFill>
          <a:blip r:embed="rId3"/>
          <a:stretch/>
        </p:blipFill>
        <p:spPr>
          <a:xfrm>
            <a:off x="757080" y="3809880"/>
            <a:ext cx="2595600" cy="2895840"/>
          </a:xfrm>
          <a:prstGeom prst="rect">
            <a:avLst/>
          </a:prstGeom>
          <a:ln w="0">
            <a:noFill/>
          </a:ln>
        </p:spPr>
      </p:pic>
      <p:pic>
        <p:nvPicPr>
          <p:cNvPr id="46" name="21559871.thb" descr=""/>
          <p:cNvPicPr/>
          <p:nvPr/>
        </p:nvPicPr>
        <p:blipFill>
          <a:blip r:embed="rId4"/>
          <a:stretch/>
        </p:blipFill>
        <p:spPr>
          <a:xfrm>
            <a:off x="5029200" y="228600"/>
            <a:ext cx="36576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152280"/>
            <a:ext cx="2536920" cy="312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6576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8120" y="3581280"/>
            <a:ext cx="324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270400" y="152280"/>
            <a:ext cx="311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200400" cy="29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11796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00600" y="3979800"/>
            <a:ext cx="3962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00" y="3581280"/>
            <a:ext cx="31831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261144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81560" y="3619440"/>
            <a:ext cx="2847960" cy="308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43560" y="76320"/>
            <a:ext cx="2571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01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38680" y="198360"/>
            <a:ext cx="270540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9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759120"/>
            <a:ext cx="3657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26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10080" y="3581280"/>
          <a:ext cx="335304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581280"/>
                    <a:ext cx="33530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2120" y="228600"/>
            <a:ext cx="291132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819520" cy="242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0760" y="3962520"/>
            <a:ext cx="13971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3-23T22:22:58Z</dcterms:modified>
  <cp:revision>10</cp:revision>
  <dc:subject/>
  <dc:title>Slide 1</dc:title>
</cp:coreProperties>
</file>