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3C5-BBCC-4854-8071-4E44B36B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454-8DF1-454C-9F94-4ABEB188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AD6-581C-4C56-BE1D-E8F62A50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9A5-7EF7-41F7-9DF1-D32BC3EE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466-3869-4E76-85C3-21DD3FED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3DF-4A0B-4D85-A93F-589B53B9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EE6-9FBC-43F3-8702-BF278CDA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6B8-C8AE-44BE-870D-DDAD9F47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A14-8AA2-4DF1-B68C-B6E02C16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65A-AE3C-4E6E-A030-1CC7AF3B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FF1-CC65-4FF0-9EA5-43333B3B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589-BD79-4B27-8FBB-DC8396A1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4833-6317-42BF-9BA3-E42089B47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1559879.thb" descr=""/>
          <p:cNvPicPr/>
          <p:nvPr/>
        </p:nvPicPr>
        <p:blipFill>
          <a:blip r:embed="rId1"/>
          <a:stretch/>
        </p:blipFill>
        <p:spPr>
          <a:xfrm>
            <a:off x="0" y="76320"/>
            <a:ext cx="2514600" cy="1925640"/>
          </a:xfrm>
          <a:prstGeom prst="rect">
            <a:avLst/>
          </a:prstGeom>
          <a:ln w="0">
            <a:noFill/>
          </a:ln>
        </p:spPr>
      </p:pic>
      <p:pic>
        <p:nvPicPr>
          <p:cNvPr id="46" name="21559725.thb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21559508.thb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77624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21559871.thb" descr=""/>
          <p:cNvPicPr/>
          <p:nvPr/>
        </p:nvPicPr>
        <p:blipFill>
          <a:blip r:embed="rId4"/>
          <a:stretch/>
        </p:blipFill>
        <p:spPr>
          <a:xfrm>
            <a:off x="3200400" y="104760"/>
            <a:ext cx="2552760" cy="208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664080" y="2514600"/>
            <a:ext cx="167004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4762440"/>
            <a:ext cx="2438280" cy="209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505320" y="4724280"/>
            <a:ext cx="210960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05720" y="4876920"/>
            <a:ext cx="2047680" cy="191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629400" y="246204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362320" cy="220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87880" y="0"/>
            <a:ext cx="2138040" cy="2247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204624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77120" y="249120"/>
            <a:ext cx="2666880" cy="173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57200" y="2514600"/>
            <a:ext cx="1774800" cy="20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705720" y="2514600"/>
            <a:ext cx="186372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33920" y="2438280"/>
            <a:ext cx="1674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429000" y="5037120"/>
            <a:ext cx="2438280" cy="182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781680" y="4762440"/>
            <a:ext cx="1841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616120"/>
            <a:ext cx="2666880" cy="17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6934320" y="2541600"/>
          <a:ext cx="2057400" cy="187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2541600"/>
                    <a:ext cx="2057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1903320" cy="194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048120" y="2616120"/>
            <a:ext cx="1000080" cy="172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114800" y="2666880"/>
            <a:ext cx="1981080" cy="1702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3352680" y="228600"/>
            <a:ext cx="2438640" cy="1913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380880" y="0"/>
            <a:ext cx="20462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21:31:36Z</dcterms:modified>
  <cp:revision>17</cp:revision>
  <dc:subject/>
  <dc:title>Slide 1</dc:title>
</cp:coreProperties>
</file>