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5B1A-7767-4FDA-8BC7-CD4ED60C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B81-3B96-4C46-9B23-AE8C7B43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239-5AFB-4B2D-8306-28427A80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3AA-7F2E-46F3-BAFE-E84BE6C8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EF1-E780-4695-8E55-FE6B8210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594-57BC-400E-B52C-403B7E83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4707-0B15-4F5A-83EA-4F902FA9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C59-594B-4011-A2F1-1FFEFB96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F0D-F868-4519-9EB1-8F7E94A5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476-4781-4A82-8269-A1AF8B29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DF5-4428-460B-9ABF-81D10602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072-86C7-4A96-A888-55476A91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B1F4-7B25-4053-B817-F9A153840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21559879.thb" descr=""/>
          <p:cNvPicPr/>
          <p:nvPr/>
        </p:nvPicPr>
        <p:blipFill>
          <a:blip r:embed="rId1"/>
          <a:stretch/>
        </p:blipFill>
        <p:spPr>
          <a:xfrm>
            <a:off x="0" y="76320"/>
            <a:ext cx="2514600" cy="1925640"/>
          </a:xfrm>
          <a:prstGeom prst="rect">
            <a:avLst/>
          </a:prstGeom>
          <a:ln w="0">
            <a:noFill/>
          </a:ln>
        </p:spPr>
      </p:pic>
      <p:pic>
        <p:nvPicPr>
          <p:cNvPr id="46" name="21559725.thb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21559508.thb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177624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21559871.thb" descr=""/>
          <p:cNvPicPr/>
          <p:nvPr/>
        </p:nvPicPr>
        <p:blipFill>
          <a:blip r:embed="rId4"/>
          <a:stretch/>
        </p:blipFill>
        <p:spPr>
          <a:xfrm>
            <a:off x="3200400" y="104760"/>
            <a:ext cx="2552760" cy="2085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664080" y="2514600"/>
            <a:ext cx="167004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28600" y="4762440"/>
            <a:ext cx="2438280" cy="2095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505320" y="4724280"/>
            <a:ext cx="210960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705720" y="4876920"/>
            <a:ext cx="2047680" cy="191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6629400" y="246204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362320" cy="2206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87880" y="0"/>
            <a:ext cx="2138040" cy="2247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4800600"/>
            <a:ext cx="204624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77120" y="249120"/>
            <a:ext cx="2666880" cy="1731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57200" y="2514600"/>
            <a:ext cx="1774800" cy="2019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6705720" y="2514600"/>
            <a:ext cx="1863720" cy="2019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733920" y="2438280"/>
            <a:ext cx="1674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3429000" y="5037120"/>
            <a:ext cx="2438280" cy="182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6781680" y="4762440"/>
            <a:ext cx="18417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616120"/>
            <a:ext cx="2666880" cy="17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6934320" y="2541600"/>
          <a:ext cx="2057400" cy="187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2541600"/>
                    <a:ext cx="2057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934320" y="228600"/>
            <a:ext cx="1903320" cy="1943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048120" y="2616120"/>
            <a:ext cx="1000080" cy="172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114800" y="2666880"/>
            <a:ext cx="1981080" cy="1702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3352680" y="228600"/>
            <a:ext cx="2438640" cy="1913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380880" y="0"/>
            <a:ext cx="204624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25T21:31:36Z</dcterms:modified>
  <cp:revision>17</cp:revision>
  <dc:subject/>
  <dc:title>Slide 1</dc:title>
</cp:coreProperties>
</file>