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E2F-D71C-4F5D-91F3-A505E1AA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A9F-C67B-4F52-A7FB-1F14E933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29F-FE4D-4E41-ABE7-EC9E5B8B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9A9-CCBC-4E6E-8B5A-2F413EE0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0FB-B87F-483F-B945-A2A692C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598-59CF-4D71-BBE0-CAE036C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E4B-844C-47F1-922E-71748791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86D-49EF-43F5-BEA0-7FBECFD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6D4-FDE2-4061-865D-DF4376B4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1E6-9AA3-4B9F-8305-645DC50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705-1084-4F78-9734-DDDE8D8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A03-0510-451B-B9CD-987A6E3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94D8-E6C5-41EF-ABC1-4AC3B88A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988/988,1106018305,1/stock-photo-grandfather-reading-a-book-104596.jpg&amp;imgrefurl=http://www.shutterstock.com/pic-104596/stock-photo-grandfather-reading-a-book.html&amp;usg=__CSIcHlpzGqyMTi7S18DbF_mvDPM=&amp;h=358&amp;w=450&amp;sz=65&amp;hl=en&amp;start=455&amp;itbs=1&amp;tbnid=zO9OZ5M7-UHp8M:&amp;tbnh=101&amp;tbnw=127&amp;prev=/images%3Fq%3Dgrandfather%26start%3D440%26hl%3Den%26safe%3Dactive%26sa%3DN%26gbv%3D2%26ndsp%3D20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http://www.lafayettecountyhealth.org/MomBaby.jpg"/>
          <p:cNvPicPr/>
          <p:nvPr/>
        </p:nvPicPr>
        <p:blipFill>
          <a:blip r:embed="rId1"/>
          <a:stretch/>
        </p:blipFill>
        <p:spPr>
          <a:xfrm>
            <a:off x="658800" y="6094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http://organicmania.com/wp-content/uploads/2008/02/wirkenphoto-mom-made-foods.jpg"/>
          <p:cNvPicPr/>
          <p:nvPr/>
        </p:nvPicPr>
        <p:blipFill>
          <a:blip r:embed="rId2"/>
          <a:stretch/>
        </p:blipFill>
        <p:spPr>
          <a:xfrm>
            <a:off x="380880" y="472428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http://www.lafayettecountyhealth.org/MomChild.jpg"/>
          <p:cNvPicPr/>
          <p:nvPr/>
        </p:nvPicPr>
        <p:blipFill>
          <a:blip r:embed="rId3"/>
          <a:stretch/>
        </p:blipFill>
        <p:spPr>
          <a:xfrm>
            <a:off x="3581280" y="9144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http://spocus.typepad.com/photos/uncategorized/2008/01/16/shcitychic_columbuscircle_mom_bab_4.jpg"/>
          <p:cNvPicPr/>
          <p:nvPr/>
        </p:nvPicPr>
        <p:blipFill>
          <a:blip r:embed="rId4"/>
          <a:stretch/>
        </p:blipFill>
        <p:spPr>
          <a:xfrm>
            <a:off x="3886200" y="4984920"/>
            <a:ext cx="2362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http://www.31octobre1984.com/wp-content/uploads/2008/01/dad-son.jpg"/>
          <p:cNvPicPr/>
          <p:nvPr/>
        </p:nvPicPr>
        <p:blipFill>
          <a:blip r:embed="rId1"/>
          <a:stretch/>
        </p:blipFill>
        <p:spPr>
          <a:xfrm>
            <a:off x="152280" y="304920"/>
            <a:ext cx="3121200" cy="416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http://blogs.westdeptford.lib.nj.us/novelideas/files/2009/06/dad-and-daughter-at-reference-resized.jpg"/>
          <p:cNvPicPr/>
          <p:nvPr/>
        </p:nvPicPr>
        <p:blipFill>
          <a:blip r:embed="rId2"/>
          <a:stretch/>
        </p:blipFill>
        <p:spPr>
          <a:xfrm>
            <a:off x="3581280" y="1522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http://i.telegraph.co.uk/telegraph/multimedia/archive/01370/Twin-sisters_1370822c.jpg"/>
          <p:cNvPicPr/>
          <p:nvPr/>
        </p:nvPicPr>
        <p:blipFill>
          <a:blip r:embed="rId3"/>
          <a:stretch/>
        </p:blipFill>
        <p:spPr>
          <a:xfrm>
            <a:off x="380880" y="4686480"/>
            <a:ext cx="2743200" cy="43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4.bp.blogspot.com/_fw7iF68JR8k/RejiHRDc24I/AAAAAAAAAwI/EfrO_SouAck/s320/sister01.jpg"/>
          <p:cNvPicPr/>
          <p:nvPr/>
        </p:nvPicPr>
        <p:blipFill>
          <a:blip r:embed="rId4"/>
          <a:stretch/>
        </p:blipFill>
        <p:spPr>
          <a:xfrm>
            <a:off x="3540240" y="49528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http://www.windwardskies.com/remember/wp-content/uploads/2009/03/hawaii-sisters-photography-0309.jpg"/>
          <p:cNvPicPr/>
          <p:nvPr/>
        </p:nvPicPr>
        <p:blipFill>
          <a:blip r:embed="rId1"/>
          <a:srcRect l="0" t="2171" r="0" b="14450"/>
          <a:stretch/>
        </p:blipFill>
        <p:spPr>
          <a:xfrm rot="4993800">
            <a:off x="-480240" y="676800"/>
            <a:ext cx="4256280" cy="308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www.alaska-in-pictures.com/data/media/20/brother-and-sister_4472.jpg"/>
          <p:cNvPicPr/>
          <p:nvPr/>
        </p:nvPicPr>
        <p:blipFill>
          <a:blip r:embed="rId2"/>
          <a:stretch/>
        </p:blipFill>
        <p:spPr>
          <a:xfrm>
            <a:off x="3760920" y="343080"/>
            <a:ext cx="25635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projects-abroad.org/_photos/_global/photo-galleries/en-uk/ghana/_global/large/volunteer-with-host-brother.jpg"/>
          <p:cNvPicPr/>
          <p:nvPr/>
        </p:nvPicPr>
        <p:blipFill>
          <a:blip r:embed="rId3"/>
          <a:stretch/>
        </p:blipFill>
        <p:spPr>
          <a:xfrm>
            <a:off x="228600" y="4799160"/>
            <a:ext cx="2895480" cy="385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staronetickets.com/images/jonasbrothers.jpg"/>
          <p:cNvPicPr/>
          <p:nvPr/>
        </p:nvPicPr>
        <p:blipFill>
          <a:blip r:embed="rId4"/>
          <a:stretch/>
        </p:blipFill>
        <p:spPr>
          <a:xfrm>
            <a:off x="3619440" y="487692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http://sweetpickles.typepad.com/.a/6a00e5513a321888330120a5062a8e970b-800wi"/>
          <p:cNvPicPr/>
          <p:nvPr/>
        </p:nvPicPr>
        <p:blipFill>
          <a:blip r:embed="rId1"/>
          <a:stretch/>
        </p:blipFill>
        <p:spPr>
          <a:xfrm>
            <a:off x="304920" y="914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blackliberal.files.wordpress.com/2009/07/grandmother-and-child1.jpg"/>
          <p:cNvPicPr/>
          <p:nvPr/>
        </p:nvPicPr>
        <p:blipFill>
          <a:blip r:embed="rId2"/>
          <a:stretch/>
        </p:blipFill>
        <p:spPr>
          <a:xfrm>
            <a:off x="3505320" y="457200"/>
            <a:ext cx="310500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www.ajwnews.com/wp-content/uploads/2010/03/Grandmother%27s-Tsotchkes-3.5.gif"/>
          <p:cNvPicPr/>
          <p:nvPr/>
        </p:nvPicPr>
        <p:blipFill>
          <a:blip r:embed="rId3"/>
          <a:stretch/>
        </p:blipFill>
        <p:spPr>
          <a:xfrm>
            <a:off x="262080" y="5029200"/>
            <a:ext cx="2938320" cy="362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blog.seva.ca/wp-content/uploads/2009/12/Tsultrim-Dorje-with-aunt-and-grandmother-lower-res.jpg"/>
          <p:cNvPicPr/>
          <p:nvPr/>
        </p:nvPicPr>
        <p:blipFill>
          <a:blip r:embed="rId4"/>
          <a:stretch/>
        </p:blipFill>
        <p:spPr>
          <a:xfrm>
            <a:off x="3648240" y="4917960"/>
            <a:ext cx="30574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>
            <a:hlinkClick r:id="rId1"/>
          </p:cNvPr>
          <p:cNvSpPr/>
          <p:nvPr/>
        </p:nvSpPr>
        <p:spPr>
          <a:xfrm>
            <a:off x="155520" y="-457200"/>
            <a:ext cx="12096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https://my.qoop.com/store/Katharine-Wright-743752e47cd3a073b546cb014255439500c179d2/Madeline-learns-to-fish-from-her-grandfather-qpps_409576915359239.LG.jpg"/>
          <p:cNvPicPr/>
          <p:nvPr/>
        </p:nvPicPr>
        <p:blipFill>
          <a:blip r:embed="rId2"/>
          <a:stretch/>
        </p:blipFill>
        <p:spPr>
          <a:xfrm>
            <a:off x="304920" y="380880"/>
            <a:ext cx="2786040" cy="348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http://oxleylearning.org/germandictionary/wp-content/uploads/2008/09/grandfather.jpg"/>
          <p:cNvPicPr/>
          <p:nvPr/>
        </p:nvPicPr>
        <p:blipFill>
          <a:blip r:embed="rId3"/>
          <a:stretch/>
        </p:blipFill>
        <p:spPr>
          <a:xfrm>
            <a:off x="3657600" y="154080"/>
            <a:ext cx="2878200" cy="43416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26"/>
          <p:cNvSpPr/>
          <p:nvPr/>
        </p:nvSpPr>
        <p:spPr>
          <a:xfrm>
            <a:off x="155520" y="-465120"/>
            <a:ext cx="125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8" descr="http://2.bp.blogspot.com/_bjeC1CyB28w/StD4iecKjOI/AAAAAAAAAew/cSzTynlFGgg/s400/Grandpa+and+Tucker+Buggy+3+July+09.jpg"/>
          <p:cNvPicPr/>
          <p:nvPr/>
        </p:nvPicPr>
        <p:blipFill>
          <a:blip r:embed="rId4"/>
          <a:stretch/>
        </p:blipFill>
        <p:spPr>
          <a:xfrm>
            <a:off x="3733920" y="49528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http://static.tvguide.com/MediaBin/Galleries/Shows/G_L/Gq_Gz/GrandpaForChristmas/crops/grandpa-for-christmas05.jpg"/>
          <p:cNvPicPr/>
          <p:nvPr/>
        </p:nvPicPr>
        <p:blipFill>
          <a:blip r:embed="rId5"/>
          <a:stretch/>
        </p:blipFill>
        <p:spPr>
          <a:xfrm>
            <a:off x="380880" y="4799160"/>
            <a:ext cx="26672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faithfulcitizenship.org/photos/family_bible_study.jpg"/>
          <p:cNvPicPr/>
          <p:nvPr/>
        </p:nvPicPr>
        <p:blipFill>
          <a:blip r:embed="rId1"/>
          <a:stretch/>
        </p:blipFill>
        <p:spPr>
          <a:xfrm>
            <a:off x="407880" y="304920"/>
            <a:ext cx="2716200" cy="4065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meredithfsmall.files.wordpress.com/2010/06/familystudies.jpg"/>
          <p:cNvPicPr/>
          <p:nvPr/>
        </p:nvPicPr>
        <p:blipFill>
          <a:blip r:embed="rId2"/>
          <a:stretch/>
        </p:blipFill>
        <p:spPr>
          <a:xfrm>
            <a:off x="3657600" y="10666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book.bestwestern.com/pkgtypesimg/family.jpg"/>
          <p:cNvPicPr/>
          <p:nvPr/>
        </p:nvPicPr>
        <p:blipFill>
          <a:blip r:embed="rId3"/>
          <a:stretch/>
        </p:blipFill>
        <p:spPr>
          <a:xfrm>
            <a:off x="3828960" y="4876920"/>
            <a:ext cx="2571840" cy="38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lave2freedom.com/blog/wp-content/uploads/2008/09/family_matters_03.jpg"/>
          <p:cNvPicPr/>
          <p:nvPr/>
        </p:nvPicPr>
        <p:blipFill>
          <a:blip r:embed="rId4"/>
          <a:stretch/>
        </p:blipFill>
        <p:spPr>
          <a:xfrm>
            <a:off x="165240" y="4876920"/>
            <a:ext cx="311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media.canadianfamily.ca/images/cf_family10_main.jpg"/>
          <p:cNvPicPr/>
          <p:nvPr/>
        </p:nvPicPr>
        <p:blipFill>
          <a:blip r:embed="rId1"/>
          <a:stretch/>
        </p:blipFill>
        <p:spPr>
          <a:xfrm>
            <a:off x="304920" y="838080"/>
            <a:ext cx="285732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scm.med.sc.edu/tecs/j0407131.jpg"/>
          <p:cNvPicPr/>
          <p:nvPr/>
        </p:nvPicPr>
        <p:blipFill>
          <a:blip r:embed="rId2"/>
          <a:stretch/>
        </p:blipFill>
        <p:spPr>
          <a:xfrm>
            <a:off x="3886200" y="271440"/>
            <a:ext cx="271296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csfministries.org/Family_5.jpg"/>
          <p:cNvPicPr/>
          <p:nvPr/>
        </p:nvPicPr>
        <p:blipFill>
          <a:blip r:embed="rId3"/>
          <a:stretch/>
        </p:blipFill>
        <p:spPr>
          <a:xfrm>
            <a:off x="3809880" y="5029200"/>
            <a:ext cx="2486160" cy="37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civil.iisc.ernet.in/~nagesh/photos/family_2005.jpg"/>
          <p:cNvPicPr/>
          <p:nvPr/>
        </p:nvPicPr>
        <p:blipFill>
          <a:blip r:embed="rId4"/>
          <a:stretch/>
        </p:blipFill>
        <p:spPr>
          <a:xfrm>
            <a:off x="380880" y="4952880"/>
            <a:ext cx="2914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shetlermilk.com/ShetlerFamily06.jpg"/>
          <p:cNvPicPr/>
          <p:nvPr/>
        </p:nvPicPr>
        <p:blipFill>
          <a:blip r:embed="rId1"/>
          <a:stretch/>
        </p:blipFill>
        <p:spPr>
          <a:xfrm>
            <a:off x="193680" y="304920"/>
            <a:ext cx="3097080" cy="38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upload.wikimedia.org/wikipedia/commons/b/b7/US-hoosier-family.jpg"/>
          <p:cNvPicPr/>
          <p:nvPr/>
        </p:nvPicPr>
        <p:blipFill>
          <a:blip r:embed="rId2"/>
          <a:stretch/>
        </p:blipFill>
        <p:spPr>
          <a:xfrm>
            <a:off x="3657600" y="301680"/>
            <a:ext cx="3089160" cy="411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natala.blogspot.com/Family.JennysWedding.10.04.jpg"/>
          <p:cNvPicPr/>
          <p:nvPr/>
        </p:nvPicPr>
        <p:blipFill>
          <a:blip r:embed="rId3"/>
          <a:stretch/>
        </p:blipFill>
        <p:spPr>
          <a:xfrm>
            <a:off x="380880" y="4724280"/>
            <a:ext cx="26910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14:54Z</dcterms:created>
  <dc:creator>Dina Winterton</dc:creator>
  <dc:description/>
  <dc:language>en-US</dc:language>
  <cp:lastModifiedBy>116706</cp:lastModifiedBy>
  <dcterms:modified xsi:type="dcterms:W3CDTF">2010-07-15T22:55:07Z</dcterms:modified>
  <cp:revision>11</cp:revision>
  <dc:subject/>
  <dc:title>Slide 1</dc:title>
</cp:coreProperties>
</file>