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0B5-071D-4667-90DF-D0645EEF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609-C526-45F5-9CE0-51CBC8C5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903-62D4-4197-8BE7-C157B0E0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9EFE-B062-4DE5-A3D4-D83BDAB8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62B-DA4A-4991-B35B-F71D5778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C2BA-6E1A-4B7B-B23E-FED8059B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5D4-EEE6-4695-955C-EED87A09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318-394B-468B-A0C9-CEF4E6A6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8B0C-8853-49B4-912B-1ADECAE5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AB0-5A38-48A7-A2DC-EC4CBBEF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2EA-03FB-4214-B0F7-C524D1C6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47C-796A-4D09-876F-1246371D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8D83-0CC7-4B5B-863F-0EA3695FA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2718000" cy="4076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40" y="5826240"/>
            <a:ext cx="3032280" cy="202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017960" y="4876920"/>
            <a:ext cx="2763720" cy="4114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9880" y="1066680"/>
            <a:ext cx="29718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92680" y="0"/>
            <a:ext cx="2889000" cy="434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9880" y="4800600"/>
            <a:ext cx="2648160" cy="3978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320" y="76320"/>
            <a:ext cx="2725560" cy="4093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6320" y="586728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382840" cy="358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560" y="4915080"/>
            <a:ext cx="2717640" cy="407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792600" y="4954680"/>
            <a:ext cx="2684520" cy="403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733920" y="1295280"/>
            <a:ext cx="304776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2040" y="4800600"/>
            <a:ext cx="2579760" cy="3886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78280" y="4876920"/>
            <a:ext cx="2979720" cy="3624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240" y="1371600"/>
            <a:ext cx="3066840" cy="203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267080" y="819000"/>
            <a:ext cx="25131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9760" y="304920"/>
            <a:ext cx="2535120" cy="3809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86200" y="228600"/>
            <a:ext cx="2697120" cy="4038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4925880"/>
            <a:ext cx="2768760" cy="414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183200" y="4800600"/>
            <a:ext cx="2674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4952880"/>
            <a:ext cx="1801800" cy="373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386080" cy="3581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064040" y="228600"/>
            <a:ext cx="2489040" cy="3733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962520" y="5029200"/>
            <a:ext cx="2708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8-11-10T22:51:50Z</dcterms:modified>
  <cp:revision>5</cp:revision>
  <dc:subject/>
  <dc:title>Slide 1</dc:title>
</cp:coreProperties>
</file>