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054-6254-4D50-AD06-253644AD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AFB-B2D7-419D-8B52-F290D3E5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94E-CFD7-4430-A6B9-91B28C09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E4B-FDE4-4075-A408-390087F1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0D8-F8EE-4D11-8E69-FB5BADBD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2F3-2300-4067-A260-AFF42577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D30-D2D5-43E9-8446-E8973078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9263-5B40-4A65-A982-9D1F93BA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4DE-E19C-4F97-B7F7-14F1B1F8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0B3-E670-48BE-BBF1-085A29E7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D9F-499B-436F-8D2B-D90FF70E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01E-BAA3-4A3C-867F-8C6D1179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D68B-40BF-42C5-85DC-8B90732CD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2718000" cy="407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40" y="5826240"/>
            <a:ext cx="3032280" cy="202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017960" y="4876920"/>
            <a:ext cx="276372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9880" y="1066680"/>
            <a:ext cx="29718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92680" y="0"/>
            <a:ext cx="2889000" cy="434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9880" y="4800600"/>
            <a:ext cx="2648160" cy="397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2725560" cy="4093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6320" y="586728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382840" cy="358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560" y="4915080"/>
            <a:ext cx="2717640" cy="407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92600" y="4954680"/>
            <a:ext cx="2684520" cy="403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733920" y="1295280"/>
            <a:ext cx="30477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2040" y="4800600"/>
            <a:ext cx="257976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78280" y="4876920"/>
            <a:ext cx="2979720" cy="3624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240" y="1371600"/>
            <a:ext cx="3066840" cy="203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267080" y="819000"/>
            <a:ext cx="25131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9760" y="304920"/>
            <a:ext cx="253512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2697120" cy="4038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4925880"/>
            <a:ext cx="2768760" cy="414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183200" y="4800600"/>
            <a:ext cx="267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4952880"/>
            <a:ext cx="1801800" cy="373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386080" cy="3581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064040" y="228600"/>
            <a:ext cx="2489040" cy="3733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962520" y="5029200"/>
            <a:ext cx="2708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Dina Winterton</cp:lastModifiedBy>
  <dcterms:modified xsi:type="dcterms:W3CDTF">2008-11-10T22:51:50Z</dcterms:modified>
  <cp:revision>5</cp:revision>
  <dc:subject/>
  <dc:title>Slide 1</dc:title>
</cp:coreProperties>
</file>