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4EF-367F-4816-9275-A28248E4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C8A-0CC6-4E35-9067-A5970555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E26-1CBD-4D85-B943-C86512EF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188-A980-4265-A2BE-55853D37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804-6E0C-4F51-A3CA-3FD247D5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6CC-81A3-4FA4-BB38-92A246B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54E-62D2-4CE8-9F2B-CDDBA60F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BC0-9C50-489A-BD3C-5F0E83FA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9AA-2B01-4EDA-9694-8898E8AB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6BB-C1D5-4279-A357-22ACD3A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793-8245-490F-839A-9E349B9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B40-AF30-44A0-9CEE-62AA42FC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D397-9EE3-4E1B-B1E0-563EAD00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2718000" cy="40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5826240"/>
            <a:ext cx="303228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76372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1066680"/>
            <a:ext cx="2971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288900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648160" cy="397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725560" cy="40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320" y="58672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8284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" y="491508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92600" y="4954680"/>
            <a:ext cx="2684520" cy="40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040" y="48006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8280" y="4876920"/>
            <a:ext cx="2979720" cy="362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240" y="1371600"/>
            <a:ext cx="306684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67080" y="819000"/>
            <a:ext cx="2513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304920"/>
            <a:ext cx="25351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26971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925880"/>
            <a:ext cx="27687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83200" y="4800600"/>
            <a:ext cx="267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8018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3860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4040" y="228600"/>
            <a:ext cx="248904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5029200"/>
            <a:ext cx="27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51:50Z</dcterms:modified>
  <cp:revision>5</cp:revision>
  <dc:subject/>
  <dc:title>Slide 1</dc:title>
</cp:coreProperties>
</file>