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878-ADC5-43C2-B3CE-646EEB96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DE8-00DE-4521-84E2-DCA7B145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133-3A68-4844-894D-C9C22FD4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FC3-E4A2-420C-B956-706E5FC0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DEF-817A-4217-B5AA-ECC66149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71B-9702-4B74-9D83-F04A3FFE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8C7-9ED9-4850-B6C8-C145F922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611-14E4-4C05-ACAB-ABF63858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1ACF-0E62-48C1-A401-A5EE676A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181-C13E-43A4-904B-AE201684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CC8-3DAC-48BD-B5A1-577DC185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686-C97D-4EDF-A1B4-C68C4C1D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B1FE-2BFE-4C2F-B19F-3256AF538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16732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90920" y="6477120"/>
            <a:ext cx="1582560" cy="2377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743200" y="3581280"/>
            <a:ext cx="1457280" cy="2189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3886200"/>
            <a:ext cx="2041560" cy="136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952880" y="457200"/>
            <a:ext cx="1544760" cy="230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04920" y="7086600"/>
            <a:ext cx="180000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514600" y="812880"/>
            <a:ext cx="1981080" cy="159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029200" y="6400800"/>
            <a:ext cx="153036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6477120"/>
            <a:ext cx="1528920" cy="23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34308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172692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7240" y="3962520"/>
            <a:ext cx="2000160" cy="1328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590920" y="3657600"/>
            <a:ext cx="168120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105520" y="382680"/>
            <a:ext cx="1519200" cy="228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666880" y="6400800"/>
            <a:ext cx="1582920" cy="2378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5076720" y="6477120"/>
            <a:ext cx="162900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438280" y="91440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649520" cy="246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90920" y="304920"/>
            <a:ext cx="174924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952880" y="380880"/>
            <a:ext cx="1560600" cy="2343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04920" y="3352680"/>
            <a:ext cx="1697040" cy="254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819520" y="3352680"/>
            <a:ext cx="1238040" cy="2565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181480" y="3657600"/>
            <a:ext cx="1590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1-10T22:52:20Z</dcterms:modified>
  <cp:revision>9</cp:revision>
  <dc:subject/>
  <dc:title>Slide 1</dc:title>
</cp:coreProperties>
</file>