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FE9-530F-4FDC-B3C0-F7F84D76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3B9-E24E-45C8-BE50-4A9C4BAC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7CE-F36C-4A9A-80B2-931F67F3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6C4-4D50-4CB2-98EC-B6C8AF42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EB1-1BDA-4C91-8A38-1BAC0B26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4C3-1121-4186-A976-D1752B7C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AA7-5A59-4F3E-A9DF-07E10DD4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BB7-6A72-4DD0-B6F7-98FF35CF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567-1805-4103-A9EB-2F6988FB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2ED-F341-4E22-9472-0D5203E7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7D7-A692-465C-AAC6-BEF039CB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C0A-BA43-4E44-ADE1-9D0FEA21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7480-E275-4712-A702-A70549FB3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16732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90920" y="6477120"/>
            <a:ext cx="1582560" cy="237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43200" y="3581280"/>
            <a:ext cx="1457280" cy="2189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3886200"/>
            <a:ext cx="2041560" cy="136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952880" y="457200"/>
            <a:ext cx="1544760" cy="230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04920" y="7086600"/>
            <a:ext cx="180000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514600" y="812880"/>
            <a:ext cx="1981080" cy="159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029200" y="6400800"/>
            <a:ext cx="153036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6477120"/>
            <a:ext cx="1528920" cy="23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34308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172692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7240" y="3962520"/>
            <a:ext cx="2000160" cy="1328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590920" y="3657600"/>
            <a:ext cx="168120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105520" y="382680"/>
            <a:ext cx="1519200" cy="228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666880" y="6400800"/>
            <a:ext cx="1582920" cy="2378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5076720" y="6477120"/>
            <a:ext cx="162900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438280" y="91440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649520" cy="246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90920" y="304920"/>
            <a:ext cx="174924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952880" y="380880"/>
            <a:ext cx="1560600" cy="2343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4920" y="3352680"/>
            <a:ext cx="1697040" cy="254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819520" y="3352680"/>
            <a:ext cx="1238040" cy="256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181480" y="3657600"/>
            <a:ext cx="1590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1-10T22:52:20Z</dcterms:modified>
  <cp:revision>9</cp:revision>
  <dc:subject/>
  <dc:title>Slide 1</dc:title>
</cp:coreProperties>
</file>