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FC7-07B3-4D39-ADC5-32F1E844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D8B-3BC6-4CB0-A6E9-63CB7B7E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6B8-E6B1-4F31-A8B7-F295D23E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E12-54EF-4F38-8C74-F872E20D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A65-777F-4F68-9EAF-6007FAB3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EB8-DBFC-46E9-95B3-1D777D2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E42-D564-43E4-A276-1DC06F5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69E-A11B-4FA3-970F-2143824A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76B-9D97-4062-99E5-6D38BDF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72F-56B1-474B-92EB-A2DE084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DB1-A394-4C01-A772-2AAAC72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138-1490-4FDC-91F1-B6D7C6A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970-D3FE-4CCC-8B26-D2CABD93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6477120"/>
            <a:ext cx="1582560" cy="237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3200" y="358128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2041560" cy="13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952880" y="457200"/>
            <a:ext cx="1544760" cy="23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08660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514600" y="812880"/>
            <a:ext cx="198108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029200" y="6400800"/>
            <a:ext cx="15303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477120"/>
            <a:ext cx="1528920" cy="23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4308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72692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7240" y="396252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590920" y="3657600"/>
            <a:ext cx="1681200" cy="2000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105520" y="382680"/>
            <a:ext cx="1519200" cy="228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666880" y="6400800"/>
            <a:ext cx="1582920" cy="2378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076720" y="6477120"/>
            <a:ext cx="162900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438280" y="91440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649520" cy="246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2408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304920"/>
            <a:ext cx="17492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52880" y="380880"/>
            <a:ext cx="1560600" cy="234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1697040" cy="254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12380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181480" y="3657600"/>
            <a:ext cx="1590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Dina Winterton</cp:lastModifiedBy>
  <dcterms:modified xsi:type="dcterms:W3CDTF">2008-11-10T22:52:20Z</dcterms:modified>
  <cp:revision>9</cp:revision>
  <dc:subject/>
  <dc:title>Slide 1</dc:title>
</cp:coreProperties>
</file>