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CFA5-2441-4C8A-B2C3-08E9F15F0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0A94-59FB-4504-95AE-9719B9EB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D033-D13E-4941-8981-E55F806F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8125-5874-4141-9118-B593589D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D171-E213-477C-BAEF-3ECEEDFE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96B8-DE8A-4CA4-A13C-A72C8ED2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461C-4E15-4A6A-8194-C6EAE8BA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A333-F0DF-4C7A-AF19-CB510F04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F804-FAF4-49A2-B961-41308B5B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0D67-0471-4505-8440-453E4581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C4D2-33C8-479F-83CB-205FBB10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0151-81AA-49C0-8610-F9BD7722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C1AD-CC8E-42A1-97C6-CD5827B4D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2408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17220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52880" y="3429000"/>
            <a:ext cx="167328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90920" y="6477120"/>
            <a:ext cx="1582560" cy="2377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1600200" cy="2400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743200" y="3581280"/>
            <a:ext cx="1457280" cy="2189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0" y="3886200"/>
            <a:ext cx="2041560" cy="1362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4952880" y="457200"/>
            <a:ext cx="1544760" cy="2300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304920" y="7086600"/>
            <a:ext cx="1800000" cy="1200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2514600" y="812880"/>
            <a:ext cx="1981080" cy="1595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5029200" y="6400800"/>
            <a:ext cx="153036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12408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17220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6477120"/>
            <a:ext cx="1528920" cy="230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04920" y="343080"/>
            <a:ext cx="1600200" cy="240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876920" y="3657600"/>
            <a:ext cx="1726920" cy="2100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7240" y="3962520"/>
            <a:ext cx="2000160" cy="1328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2590920" y="3657600"/>
            <a:ext cx="1681200" cy="2000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5105520" y="382680"/>
            <a:ext cx="1519200" cy="2284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2666880" y="6400800"/>
            <a:ext cx="1582920" cy="2378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5076720" y="6477120"/>
            <a:ext cx="1629000" cy="2438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2438280" y="914400"/>
            <a:ext cx="2057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649520" cy="2465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12408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17220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590920" y="304920"/>
            <a:ext cx="1749240" cy="2590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952880" y="380880"/>
            <a:ext cx="1560600" cy="2343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304920" y="3352680"/>
            <a:ext cx="1697040" cy="2546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2819520" y="3352680"/>
            <a:ext cx="1238040" cy="2565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5181480" y="3657600"/>
            <a:ext cx="1590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Dina Winterton</cp:lastModifiedBy>
  <dcterms:modified xsi:type="dcterms:W3CDTF">2008-11-10T22:52:20Z</dcterms:modified>
  <cp:revision>9</cp:revision>
  <dc:subject/>
  <dc:title>Slide 1</dc:title>
</cp:coreProperties>
</file>