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FBA0-3DCE-4802-9AA1-705E0B6E0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A09D-5D97-4315-A589-00E9A59D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54F4-70DA-4930-BD9A-C3AE62536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518E-514B-495F-BA7A-8F33C0ECB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8FA7-E27D-4497-8BBA-87493F6F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AD10-D2DC-411F-AB94-6F5D11DA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F416-86B9-47D6-9B56-6182F5DC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791A-1896-4837-9DE3-CE3E6827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6E08-4B8C-47E7-88BA-F2DF6907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F362-C5E7-4F48-8BA1-A7C3A439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3BBA-0BAA-4F78-9A83-715D59A7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E9F7-45BF-4D0D-9EC3-86C3DB30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F715-3391-4D8A-B197-825158318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3886200" cy="3002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3505320" cy="3048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915080" y="3581280"/>
            <a:ext cx="3924000" cy="3138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876920" y="152280"/>
            <a:ext cx="38862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62160" cy="3003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967280" y="3581280"/>
            <a:ext cx="3795840" cy="3127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63400" y="3581280"/>
            <a:ext cx="3170520" cy="3276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886200" y="-304920"/>
            <a:ext cx="2805120" cy="3781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181480" y="0"/>
            <a:ext cx="365760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00600" y="3657600"/>
            <a:ext cx="4257720" cy="3038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" y="3581280"/>
            <a:ext cx="3581280" cy="3070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52280" y="95400"/>
            <a:ext cx="4191120" cy="3257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029200" y="133200"/>
            <a:ext cx="380988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29200" y="0"/>
            <a:ext cx="4114800" cy="3135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28600" y="3657600"/>
            <a:ext cx="4191120" cy="3030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410080" y="3662280"/>
            <a:ext cx="346248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3504960" cy="3216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486400" y="3657600"/>
            <a:ext cx="3086280" cy="308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4724280" y="150840"/>
          <a:ext cx="4267440" cy="304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0840"/>
                    <a:ext cx="426744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533520" y="3613320"/>
            <a:ext cx="358128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4267440" cy="2841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pomeranian.jpg Pomeranian image by hpgal88"/>
          <p:cNvPicPr/>
          <p:nvPr/>
        </p:nvPicPr>
        <p:blipFill>
          <a:blip r:embed="rId2"/>
          <a:stretch/>
        </p:blipFill>
        <p:spPr>
          <a:xfrm>
            <a:off x="5257800" y="171360"/>
            <a:ext cx="3429000" cy="3029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Dina Winterton</cp:lastModifiedBy>
  <dcterms:modified xsi:type="dcterms:W3CDTF">2009-03-25T18:22:50Z</dcterms:modified>
  <cp:revision>41</cp:revision>
  <dc:subject/>
  <dc:title>Slide 1</dc:title>
</cp:coreProperties>
</file>