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5AA3-CE8D-4C49-9C31-4B45E97A6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DA65-0719-4137-9B4F-D9EB8F3A2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E71F-0182-4D60-AC7B-C78D81A7E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AF08-F9D6-4144-AB40-9CEBE2858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E20A-F3DC-4F95-A0D6-1CFCD6EBC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CE52-C0B3-45EA-A275-52A236AF4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D6F7-E231-4B20-B0C5-4BBCADA27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0C38-A311-49A8-B55C-7AF0BC8F8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7D1E-324F-4A91-B77D-59BB86CA4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600B-DACB-47B4-A3F7-98C09E995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2FE9-1527-426B-853F-0EF7950AA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6516-6AA6-4BF7-AF06-D33110D42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030F7-0B8A-4108-96FC-FA22ABBEB0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0.pn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04920" y="3657600"/>
            <a:ext cx="3886200" cy="30020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57200" y="228600"/>
            <a:ext cx="3505320" cy="30481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4915080" y="3581280"/>
            <a:ext cx="3924000" cy="31384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4876920" y="152280"/>
            <a:ext cx="3886200" cy="30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3962160" cy="30034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967280" y="3581280"/>
            <a:ext cx="3795840" cy="31273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563400" y="3581280"/>
            <a:ext cx="3170520" cy="32767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3886200" y="-304920"/>
            <a:ext cx="2805120" cy="37814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5181480" y="0"/>
            <a:ext cx="3657600" cy="31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800600" y="3657600"/>
            <a:ext cx="4257720" cy="30384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57200" y="3581280"/>
            <a:ext cx="3581280" cy="30704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152280" y="95400"/>
            <a:ext cx="4191120" cy="32572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5029200" y="133200"/>
            <a:ext cx="3809880" cy="30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33520" y="0"/>
            <a:ext cx="3200400" cy="32004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5029200" y="0"/>
            <a:ext cx="4114800" cy="31352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28600" y="3657600"/>
            <a:ext cx="4191120" cy="30304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5410080" y="3662280"/>
            <a:ext cx="3462480" cy="31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33520" y="0"/>
            <a:ext cx="3504960" cy="32162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5486400" y="3657600"/>
            <a:ext cx="3086280" cy="3086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0" name=""/>
          <p:cNvGraphicFramePr/>
          <p:nvPr/>
        </p:nvGraphicFramePr>
        <p:xfrm>
          <a:off x="4724280" y="150840"/>
          <a:ext cx="4267440" cy="3049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0840"/>
                    <a:ext cx="4267440" cy="304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533520" y="3613320"/>
            <a:ext cx="3581280" cy="30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52280" y="304920"/>
            <a:ext cx="4267440" cy="28414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pomeranian.jpg Pomeranian image by hpgal88"/>
          <p:cNvPicPr/>
          <p:nvPr/>
        </p:nvPicPr>
        <p:blipFill>
          <a:blip r:embed="rId2"/>
          <a:stretch/>
        </p:blipFill>
        <p:spPr>
          <a:xfrm>
            <a:off x="5257800" y="171360"/>
            <a:ext cx="3429000" cy="30290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16:19:01Z</dcterms:created>
  <dc:creator>Dina Winterton</dc:creator>
  <dc:description/>
  <dc:language>en-US</dc:language>
  <cp:lastModifiedBy>Dina Winterton</cp:lastModifiedBy>
  <dcterms:modified xsi:type="dcterms:W3CDTF">2009-03-25T18:22:50Z</dcterms:modified>
  <cp:revision>41</cp:revision>
  <dc:subject/>
  <dc:title>Slide 1</dc:title>
</cp:coreProperties>
</file>