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D30-C631-4564-9DD9-92BA47B6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604-F21D-40E4-947B-13C6E2ED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10C-F281-4874-8EFA-0562EF08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A23-4D8D-4C26-BEA1-0978A440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9A6-2AAF-4971-9E79-EBE8951B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5A3-7BA5-442E-8D9A-277C12B7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DD2-0989-4D94-B04D-1EF48BE4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DD3-6BCC-41FB-A9FD-A5FD7C71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14B-8FDF-4DA8-A9A1-75BFFB3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A7E-45EE-483C-B7DD-75FD23E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22D-2183-48B4-8E1F-FE03ABB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A99-8A4B-4A48-B9F9-14595181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0FA8-A911-454E-9548-FA9D3BA45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886200" cy="30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15080" y="3581280"/>
            <a:ext cx="3924000" cy="31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76920" y="152280"/>
            <a:ext cx="3886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30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7280" y="3581280"/>
            <a:ext cx="3795840" cy="312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3400" y="3581280"/>
            <a:ext cx="31705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86200" y="-304920"/>
            <a:ext cx="2805120" cy="37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6576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257720" cy="303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581280" cy="307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95400"/>
            <a:ext cx="4191120" cy="32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29200" y="13320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19112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10080" y="3662280"/>
            <a:ext cx="3462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504960" cy="321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3086280" cy="30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724280" y="150840"/>
          <a:ext cx="4267440" cy="30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0840"/>
                    <a:ext cx="42674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520" y="3613320"/>
            <a:ext cx="35812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pomeranian.jpg Pomeranian image by hpgal88"/>
          <p:cNvPicPr/>
          <p:nvPr/>
        </p:nvPicPr>
        <p:blipFill>
          <a:blip r:embed="rId2"/>
          <a:stretch/>
        </p:blipFill>
        <p:spPr>
          <a:xfrm>
            <a:off x="5257800" y="171360"/>
            <a:ext cx="3429000" cy="302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18:22:50Z</dcterms:modified>
  <cp:revision>41</cp:revision>
  <dc:subject/>
  <dc:title>Slide 1</dc:title>
</cp:coreProperties>
</file>