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A1B-CA0C-4F6E-956B-F87A7BE5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B70-1EEF-4EC5-A899-34794C05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85B-80F2-44FC-B033-5222BF5F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99A-5E0D-4335-B957-884102B9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E88-A167-4CD7-8EBA-F2C5472C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AE3-3602-412C-A801-92C7C31D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AFC-6CA4-4E51-9940-E202272E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0D4-A1F6-4F22-9279-D3CE7B64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A8A-B970-4872-AD18-BBC81B34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325-9912-4EA4-982A-193D99C6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EDD-4EB0-4E2C-BB61-94533B91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905-1849-4098-A634-6B133BD9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809D-362F-4BD8-BD76-3825D592E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3886200" cy="3002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505320" cy="3048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915080" y="3581280"/>
            <a:ext cx="3924000" cy="3138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876920" y="152280"/>
            <a:ext cx="38862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30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67280" y="3581280"/>
            <a:ext cx="3795840" cy="312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63400" y="3581280"/>
            <a:ext cx="317052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86200" y="-304920"/>
            <a:ext cx="2805120" cy="37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181480" y="0"/>
            <a:ext cx="36576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4257720" cy="3038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3581280" cy="3070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2280" y="95400"/>
            <a:ext cx="4191120" cy="325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029200" y="133200"/>
            <a:ext cx="3809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135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4191120" cy="3030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410080" y="3662280"/>
            <a:ext cx="34624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3504960" cy="3216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3086280" cy="308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724280" y="150840"/>
          <a:ext cx="4267440" cy="30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0840"/>
                    <a:ext cx="426744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33520" y="3613320"/>
            <a:ext cx="35812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267440" cy="2841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pomeranian.jpg Pomeranian image by hpgal88"/>
          <p:cNvPicPr/>
          <p:nvPr/>
        </p:nvPicPr>
        <p:blipFill>
          <a:blip r:embed="rId2"/>
          <a:stretch/>
        </p:blipFill>
        <p:spPr>
          <a:xfrm>
            <a:off x="5257800" y="171360"/>
            <a:ext cx="3429000" cy="3029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25T18:22:50Z</dcterms:modified>
  <cp:revision>41</cp:revision>
  <dc:subject/>
  <dc:title>Slide 1</dc:title>
</cp:coreProperties>
</file>