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08E-B919-4532-A308-2C448EDC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E01-0938-4806-B2A4-30D7B215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7B3-46CA-4424-9848-E6A616B7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0F3-D4BC-4139-8B21-C19119BB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AAE-D801-46D7-A9C0-E08E2BAD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18A-6A97-4786-8019-7C079132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185-4A11-4F2A-8916-C765DABE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010-CBB4-4FAF-976F-D321DE3C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090-036D-4DBA-BC18-0594CEBC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649-EE31-484F-84EF-C771B5C4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740-FAE3-43C8-BED8-0347875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BEE-B02D-4E6D-B248-4270511A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0626-3D43-49B2-B677-68F9F6304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3730680"/>
            <a:ext cx="4343400" cy="28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82440" y="228600"/>
          <a:ext cx="4337280" cy="29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40" y="228600"/>
                    <a:ext cx="433728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724280" y="228600"/>
            <a:ext cx="4343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24280" y="276120"/>
            <a:ext cx="4267440" cy="284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191120" cy="282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3817800"/>
            <a:ext cx="4267440" cy="2849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800600" y="3808440"/>
            <a:ext cx="41148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809880" cy="285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191120" cy="22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975120"/>
            <a:ext cx="4343400" cy="242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3968640"/>
            <a:ext cx="41911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02T22:42:11Z</dcterms:modified>
  <cp:revision>33</cp:revision>
  <dc:subject/>
  <dc:title>Slide 1</dc:title>
</cp:coreProperties>
</file>