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C0D8-3325-49A5-9060-A26E06868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6595-97A9-4CA1-BE24-8F71C3B6E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F481-4538-4435-8C1F-868C42C27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E300-04F2-4D16-9F64-DDA2536E7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B4C3-91B2-4DDC-9CDA-D884CE1C3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3896-B07E-445D-A3E0-B60C27DC4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4CEC-54FE-4949-AEF6-7E7788346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C764-BF0B-4334-AA4A-70D83535A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B118-BD36-4F6D-9FBB-D2319C412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A29D-26A3-4007-9F17-1F1E0E87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D270-E0FE-486F-A897-240D9C9D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0B7B-3F72-4EC2-8ABB-F0A4DEC8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87D9A-6794-4DCC-BC69-71EB42242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724280" y="3730680"/>
            <a:ext cx="4343400" cy="289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"/>
          <p:cNvGraphicFramePr/>
          <p:nvPr/>
        </p:nvGraphicFramePr>
        <p:xfrm>
          <a:off x="82440" y="228600"/>
          <a:ext cx="4337280" cy="2978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440" y="228600"/>
                    <a:ext cx="4337280" cy="29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04920" y="365760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4724280" y="228600"/>
            <a:ext cx="434340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724280" y="276120"/>
            <a:ext cx="4267440" cy="28479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52280" y="304920"/>
            <a:ext cx="4191120" cy="2827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52280" y="3817800"/>
            <a:ext cx="4267440" cy="2849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4800600" y="3808440"/>
            <a:ext cx="4114800" cy="27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3809880" cy="2859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800600" y="533520"/>
            <a:ext cx="4191120" cy="2271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724280" y="3975120"/>
            <a:ext cx="4343400" cy="2425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152280" y="3968640"/>
            <a:ext cx="4191120" cy="24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6:19:01Z</dcterms:created>
  <dc:creator>Dina Winterton</dc:creator>
  <dc:description/>
  <dc:language>en-US</dc:language>
  <cp:lastModifiedBy>Dina Winterton</cp:lastModifiedBy>
  <dcterms:modified xsi:type="dcterms:W3CDTF">2009-03-02T22:42:11Z</dcterms:modified>
  <cp:revision>33</cp:revision>
  <dc:subject/>
  <dc:title>Slide 1</dc:title>
</cp:coreProperties>
</file>