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7C68-BC88-4363-B063-869E157D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743E-524D-4024-B27C-09F473E2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3E06-799F-4B39-BA9C-3AB6C316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5098-79BA-45E0-95D0-8374F212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5D0-24BB-4F4C-A5A7-A30BAFED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308F-4F5B-4987-8B5E-013153F0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8766-3EB2-44F6-B5CE-6117425E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158-5522-4B09-8493-ED38D32D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137-C5DE-4154-B7E9-418F200A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590C-56D9-47BC-9377-F55190F6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03FB-6390-4D05-85F4-B98B0099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38DF-F9B6-4DBC-9801-89D3C78B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B5D5-2BD7-4671-8785-342B3AA8E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3730680"/>
            <a:ext cx="4343400" cy="289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82440" y="228600"/>
          <a:ext cx="4337280" cy="297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440" y="228600"/>
                    <a:ext cx="4337280" cy="29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04920" y="36576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724280" y="228600"/>
            <a:ext cx="43434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724280" y="276120"/>
            <a:ext cx="4267440" cy="2847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4191120" cy="282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280" y="3817800"/>
            <a:ext cx="4267440" cy="2849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800600" y="3808440"/>
            <a:ext cx="411480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809880" cy="2859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4191120" cy="22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24280" y="3975120"/>
            <a:ext cx="4343400" cy="2425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3968640"/>
            <a:ext cx="419112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9-03-02T22:42:11Z</dcterms:modified>
  <cp:revision>33</cp:revision>
  <dc:subject/>
  <dc:title>Slide 1</dc:title>
</cp:coreProperties>
</file>