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EDC-1ABE-444F-87C6-C9F4AAAB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299-6545-448D-AF06-281585EB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D11-7ADA-43D3-A391-B5B15A8D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B49-A2FE-4C9F-943C-6CA0B709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482-A1FD-4EBF-B96C-6A279A9E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1FA-C300-4028-9973-E8E70DF1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557-C0E7-4134-9AAF-6C92233B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575-AD39-4921-877C-13A96F1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AAC-292A-4E1C-8CAD-3746186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91E-D931-4A1B-A60A-004BFD8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288-749A-4E6D-8233-B48F23D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FCD-27CB-4496-AD6E-4A08D3E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4A38-35E5-474F-8F63-B229D39E3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730680"/>
            <a:ext cx="434340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82440" y="228600"/>
          <a:ext cx="4337280" cy="29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228600"/>
                    <a:ext cx="433728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343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2761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191120" cy="282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3817800"/>
            <a:ext cx="4267440" cy="284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800600" y="3808440"/>
            <a:ext cx="41148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191120" cy="22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975120"/>
            <a:ext cx="434340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3968640"/>
            <a:ext cx="41911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02T22:42:11Z</dcterms:modified>
  <cp:revision>33</cp:revision>
  <dc:subject/>
  <dc:title>Slide 1</dc:title>
</cp:coreProperties>
</file>