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4DF-AAF7-4017-96B2-2544C720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4F5-3978-42E8-9CF9-BEBE58BA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E81-685F-4511-9786-13904731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B0D-F43F-4206-BD83-B789D576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3B71-30DF-415D-8FE8-6BD15048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D90-5084-45F7-B9FF-2F73EAE0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206-3543-4C7E-8FB3-805F3FC1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CE4-2B60-4B91-8C03-B4056C48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D1C-FBC9-4600-A7F4-7888653C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A0F-0F60-4DB2-9DE9-D430B4AB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C9E-4A15-4369-A846-D781C9CD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994-9975-4F7F-9417-13D31AAC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FD5D-A907-4720-9273-2526BCD98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3886200" cy="3002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3505320" cy="3048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915080" y="3581280"/>
            <a:ext cx="3924000" cy="3138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876920" y="152280"/>
            <a:ext cx="38862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62160" cy="30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67280" y="3581280"/>
            <a:ext cx="3795840" cy="312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63400" y="3581280"/>
            <a:ext cx="317052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86200" y="-304920"/>
            <a:ext cx="2805120" cy="37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181480" y="0"/>
            <a:ext cx="36576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4257720" cy="3038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3581280" cy="3070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52280" y="95400"/>
            <a:ext cx="4191120" cy="325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029200" y="133200"/>
            <a:ext cx="3809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135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4191120" cy="3030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410080" y="3662280"/>
            <a:ext cx="34624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3504960" cy="3216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3086280" cy="308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724280" y="150840"/>
          <a:ext cx="4267440" cy="30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0840"/>
                    <a:ext cx="426744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33520" y="3613320"/>
            <a:ext cx="35812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267440" cy="2841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pomeranian.jpg Pomeranian image by hpgal88"/>
          <p:cNvPicPr/>
          <p:nvPr/>
        </p:nvPicPr>
        <p:blipFill>
          <a:blip r:embed="rId2"/>
          <a:stretch/>
        </p:blipFill>
        <p:spPr>
          <a:xfrm>
            <a:off x="5257800" y="171360"/>
            <a:ext cx="3429000" cy="3029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25T18:22:50Z</dcterms:modified>
  <cp:revision>41</cp:revision>
  <dc:subject/>
  <dc:title>Slide 1</dc:title>
</cp:coreProperties>
</file>