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E91-108C-491A-8214-855992E2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242-7ADB-466D-81C4-1636D3CE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793-4F21-4800-B11B-E5BD882D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73A-2F3D-4E8F-A63D-91E2AB54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78A-62D7-4C9E-A1DC-830E3545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03E-101F-4547-A4FC-BAB30D4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39A-F20A-4844-A3FB-5627C1B7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F88-D058-40E6-8928-B9FB39BD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794-058E-4939-A024-C5D8FD08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CE6-B01E-49DE-9D49-9CDDB281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E85-668A-4F81-A6A6-668165E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D80-1763-43B0-A34A-6440D124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3F9F-4A00-4E23-807B-BF1072130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3886200" cy="3002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15080" y="3581280"/>
            <a:ext cx="3924000" cy="313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876920" y="152280"/>
            <a:ext cx="38862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30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7280" y="3581280"/>
            <a:ext cx="3795840" cy="312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3400" y="3581280"/>
            <a:ext cx="317052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86200" y="-304920"/>
            <a:ext cx="2805120" cy="37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36576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4257720" cy="303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581280" cy="3070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2280" y="95400"/>
            <a:ext cx="4191120" cy="32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029200" y="133200"/>
            <a:ext cx="3809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13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4191120" cy="303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10080" y="3662280"/>
            <a:ext cx="34624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504960" cy="321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3086280" cy="308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724280" y="150840"/>
          <a:ext cx="4267440" cy="30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0840"/>
                    <a:ext cx="426744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3520" y="3613320"/>
            <a:ext cx="35812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267440" cy="2841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pomeranian.jpg Pomeranian image by hpgal88"/>
          <p:cNvPicPr/>
          <p:nvPr/>
        </p:nvPicPr>
        <p:blipFill>
          <a:blip r:embed="rId2"/>
          <a:stretch/>
        </p:blipFill>
        <p:spPr>
          <a:xfrm>
            <a:off x="5257800" y="171360"/>
            <a:ext cx="3429000" cy="3029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18:22:50Z</dcterms:modified>
  <cp:revision>41</cp:revision>
  <dc:subject/>
  <dc:title>Slide 1</dc:title>
</cp:coreProperties>
</file>